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6746B-3E95-4097-BDE1-E775121FF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A7B94-77A0-4BD4-A016-81FE04F1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63D9D-2673-44F6-905F-F2EF38775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7DA92-3FB7-4179-94C3-6F853636A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3F5DD0E-4F0C-4557-B322-28EBE30B4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55C0AF-64AF-41C1-880D-9203BC5EE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EB77D0-2C8B-42D0-9E2E-88D9D4B8D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39D5F0-0F41-412E-919E-284EB16F2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98EAE9-6E5E-4D16-8AC3-3C2155DD4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875CF8-3217-4DAF-9215-A3F11D692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48C25B-A8AC-447E-A85F-1412615DC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4AA9-0968-4D91-9AE4-3C51B1805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3B3884-CEF3-44EE-B989-59433FA93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B2A9CB-31EC-4278-A322-8CCE6317B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D64D33-325B-4228-9B76-E7372CE70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CAFD21E-847A-4F02-B17E-2D74FCBC4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200D9F-958C-4E6A-B3F1-3D1C18E72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36AA2-553C-442C-A68E-AA71765F8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94E8D-BB39-46FE-9DA1-5D30A0725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BD23E-0E21-45DE-A152-18DB8AC7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6492-7661-44B0-8F5E-4C810E458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518F6-86C0-493A-A111-47951356B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0B02-2E80-4B6C-BE55-D78044E2C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1C08-8BAB-4C29-93B7-2F85316F9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CDB4-D1AF-4FD2-BDCA-83F3A915AA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731F-2964-48ED-9BE6-A0A1D0A59B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The Narrative Essay:</a:t>
            </a:r>
            <a:br>
              <a:rPr sz="4800"/>
            </a:br>
            <a:r>
              <a:rPr b="0" lang="en-US" sz="4800" spc="-1" strike="noStrike">
                <a:solidFill>
                  <a:srgbClr val="e3e3ff"/>
                </a:solidFill>
                <a:latin typeface="Arial"/>
              </a:rPr>
              <a:t>It Differs From a Simple Story!</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rine Wishar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eracy Coac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junct Instruct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lington County Colleg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2007 by Catherine Wishart. All rights reserved. </a:t>
            </a:r>
            <a:endParaRPr b="0" lang="en-US" sz="14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et’s Read the Essay – The Introduction</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t was a wonderful week to camp in the great outdoors, even if some of their friends thought it was a strange way to honeymoon. Trudy and Jeff were looking forward to their week at Great Smoky Mountains National Park in Tennessee. Little did they know what a learning experience this trip would be. Oftentimes people do not follow simple directions. However, these campers learned just how important following directions can be. </a:t>
            </a:r>
            <a:endParaRPr b="0" lang="en-US" sz="2800" spc="-1" strike="noStrike">
              <a:solidFill>
                <a:srgbClr val="ffffff"/>
              </a:solidFill>
              <a:latin typeface="Arial"/>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ting the Scene of the Story</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fter a scenic drive through the glorious mountains, Trudy and Jeff arrived at the camping area. A ranger at the booth handed them a map and asked, “Have you ever camped with us befo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 better question would be if we ever camped before,” Jerry answered wryl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ll be fine. Just remember, this isn’t a hotel. We do have bears and other animals in the area, so lock your food up in the car,” said the ranger as he handed them a lists of Do’s and Don’ts. </a:t>
            </a:r>
            <a:endParaRPr b="0" lang="en-US" sz="2800" spc="-1" strike="noStrike">
              <a:solidFill>
                <a:srgbClr val="ffffff"/>
              </a:solidFill>
              <a:latin typeface="Arial"/>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veloping the Plot</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Exhausted from their first attempt at setting up a campsite, Trudy and Jeff crawled inside the tent that evening, giggling and whispering to each other. They doused the light inside the tent and ignored the world outside the canvas. The ranger’s list was left laying on the tent floor. </a:t>
            </a:r>
            <a:endParaRPr b="0" lang="en-US" sz="3200" spc="-1" strike="noStrike">
              <a:solidFill>
                <a:srgbClr val="ffffff"/>
              </a:solidFill>
              <a:latin typeface="Arial"/>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tinuing the Action – Vivid Word Choices</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ust before sunrise, Jerry was awakened by the sounds of metal ripping. He quietly slipped out of the tent. A fully grown black bear was sitting on their picnic table busily prying the lid off the cooler they neglected to store in the car the night before. Finding the pound of bacon he prized, the bear leaned back on his hind haunches and began to devour the bacon. Jerry started screaming at the bear, “Get out of here! What do you think you’re doing?” </a:t>
            </a:r>
            <a:endParaRPr b="0" lang="en-US" sz="2800" spc="-1" strike="noStrike">
              <a:solidFill>
                <a:srgbClr val="ffffff"/>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aching the Climax</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y this point, most of the other campers had exited their own tents and watched the scene unfold. The bear was not amused by Jerry’s threatening, especially with the remainder of the bacon at stake. The black bear stood on top of the picnic table to his full height. While the bear actually stood only four feet tall, the extra height of the table caused him to loom over Jerry’s head. The bear suddenly fell forward, striking the table with his full weight and snarled. The table moaned in response. </a:t>
            </a:r>
            <a:endParaRPr b="0" lang="en-US" sz="2800" spc="-1" strike="noStrike">
              <a:solidFill>
                <a:srgbClr val="ffffff"/>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limax Continue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uch more quickly than anyone anticipated, the bear reached out his huge, menacing paw towards Jerry. Fear leapt into Jerry’s eyes as he turned and ran back into his tent. Zip! closed the zipp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ow, one can only imagine how much time passed before Jerry and Trudy realized the futility of his preventive actions. How was a flimsy flap of canvas going to stop a full-sized, angry bear?</a:t>
            </a:r>
            <a:endParaRPr b="0" lang="en-US" sz="2800" spc="-1" strike="noStrike">
              <a:solidFill>
                <a:srgbClr val="ffffff"/>
              </a:solidFill>
              <a:latin typeface="Arial"/>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nding the Solution</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tunately, the bear was much more interested in the left-over bacon than in Jerry and Trudy. The bear cautiously turned around, climbed back on top of the table, and continued to eat his early breakfast. He carefully examined the remaining contents of the cooler. Finding nothing else as delectable as the bacon, the bear jumped off the picnic table, grunted, licked his paws and mouth, and then lumbered off into the deeper woods that surrounded the campground. </a:t>
            </a:r>
            <a:endParaRPr b="0" lang="en-US" sz="2800" spc="-1" strike="noStrike">
              <a:solidFill>
                <a:srgbClr val="ffffff"/>
              </a:solidFill>
              <a:latin typeface="Arial"/>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oncluding Paragraph</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audience that had gathered applauded spontaneously, then slowly returned to their own campsites, shaking their heads in disbelief. Meanwhile, inside the thin canvas tent, Trudy and Jeff had lit their lantern and were carefully studying the items listed on the Do’s and Don’ts list. The rest of their trip was blissfully peaceful as they made sure to follow all the rules at the campsite. </a:t>
            </a:r>
            <a:endParaRPr b="0" lang="en-US" sz="3200" spc="-1" strike="noStrike">
              <a:solidFill>
                <a:srgbClr val="ffffff"/>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itional Ideas for Your Thesis</a:t>
            </a:r>
            <a:endParaRPr b="0" lang="en-US" sz="4400" spc="-1" strike="noStrike">
              <a:solidFill>
                <a:srgbClr val="e3e3ff"/>
              </a:solidFill>
              <a:latin typeface="Arial"/>
            </a:endParaRPr>
          </a:p>
        </p:txBody>
      </p:sp>
      <p:sp>
        <p:nvSpPr>
          <p:cNvPr id="157"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a thesis, or a point, you are not really writing a narrative essay but a narrative – make sure to have a point. You can get help finding a point when yo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sayings or quotes that teach a less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lessons learned from Aesop’s fab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a time when you learned something valu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quotations to spawn id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your own journals for a time something happened worth telling others about</a:t>
            </a:r>
            <a:endParaRPr b="0" lang="en-US" sz="2400" spc="-1" strike="noStrike">
              <a:solidFill>
                <a:srgbClr val="ffffff"/>
              </a:solidFill>
              <a:latin typeface="Arial"/>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pic>
        <p:nvPicPr>
          <p:cNvPr id="158" name="Picture 5" descr="bearan"/>
          <p:cNvPicPr/>
          <p:nvPr/>
        </p:nvPicPr>
        <p:blipFill>
          <a:blip r:embed="rId1"/>
          <a:stretch/>
        </p:blipFill>
        <p:spPr>
          <a:xfrm>
            <a:off x="685800" y="4267080"/>
            <a:ext cx="2367000" cy="202428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a Narrative Essay?</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is a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a story that has a specific p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teach a lesson 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make a specific poi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is </a:t>
            </a:r>
            <a:r>
              <a:rPr b="1" lang="en-US" sz="3200" spc="-1" strike="noStrike">
                <a:solidFill>
                  <a:srgbClr val="ffffff"/>
                </a:solidFill>
                <a:latin typeface="Arial"/>
              </a:rPr>
              <a:t>not</a:t>
            </a:r>
            <a:r>
              <a:rPr b="1" lang="en-US" sz="2800" spc="-1" strike="noStrike">
                <a:solidFill>
                  <a:srgbClr val="ffffff"/>
                </a:solidFill>
                <a:latin typeface="Arial"/>
              </a:rPr>
              <a:t> </a:t>
            </a:r>
            <a:r>
              <a:rPr b="0" lang="en-US" sz="2800" spc="-1" strike="noStrike">
                <a:solidFill>
                  <a:srgbClr val="ffffff"/>
                </a:solidFill>
                <a:latin typeface="Arial"/>
              </a:rPr>
              <a:t>a diary entry – the story is linked to the purpose of the essay</a:t>
            </a:r>
            <a:endParaRPr b="0" lang="en-US" sz="2800" spc="-1" strike="noStrike">
              <a:solidFill>
                <a:srgbClr val="ffffff"/>
              </a:solidFill>
              <a:latin typeface="Arial"/>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Should Be Included in a Narrative Essay?</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ritten in 1</a:t>
            </a:r>
            <a:r>
              <a:rPr b="0" lang="en-US" sz="2800" spc="-1" strike="noStrike" baseline="30000">
                <a:solidFill>
                  <a:srgbClr val="ffffff"/>
                </a:solidFill>
                <a:latin typeface="Arial"/>
              </a:rPr>
              <a:t>st</a:t>
            </a:r>
            <a:r>
              <a:rPr b="0" lang="en-US" sz="2800" spc="-1" strike="noStrike">
                <a:solidFill>
                  <a:srgbClr val="ffffff"/>
                </a:solidFill>
                <a:latin typeface="Arial"/>
              </a:rPr>
              <a:t> person – I or we – because it is based on a personal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be written in 3</a:t>
            </a:r>
            <a:r>
              <a:rPr b="0" lang="en-US" sz="2800" spc="-1" strike="noStrike" baseline="30000">
                <a:solidFill>
                  <a:srgbClr val="ffffff"/>
                </a:solidFill>
                <a:latin typeface="Arial"/>
              </a:rPr>
              <a:t>r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t>
            </a:r>
            <a:r>
              <a:rPr b="1" lang="en-US" sz="3600" spc="-1" strike="noStrike">
                <a:solidFill>
                  <a:srgbClr val="ffffff"/>
                </a:solidFill>
                <a:latin typeface="Arial"/>
              </a:rPr>
              <a:t>never</a:t>
            </a:r>
            <a:r>
              <a:rPr b="1" lang="en-US" sz="2800" spc="-1" strike="noStrike">
                <a:solidFill>
                  <a:srgbClr val="ffffff"/>
                </a:solidFill>
                <a:latin typeface="Arial"/>
              </a:rPr>
              <a:t> </a:t>
            </a:r>
            <a:r>
              <a:rPr b="0" lang="en-US" sz="2800" spc="-1" strike="noStrike">
                <a:solidFill>
                  <a:srgbClr val="ffffff"/>
                </a:solidFill>
                <a:latin typeface="Arial"/>
              </a:rPr>
              <a:t>be written in 2</a:t>
            </a:r>
            <a:r>
              <a:rPr b="0" lang="en-US" sz="2800" spc="-1" strike="noStrike" baseline="30000">
                <a:solidFill>
                  <a:srgbClr val="ffffff"/>
                </a:solidFill>
                <a:latin typeface="Arial"/>
              </a:rPr>
              <a:t>n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specific sensory details to get the reader hooked on the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developed in chronological ord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verbs that help paint a picture and draw in the reader</a:t>
            </a:r>
            <a:endParaRPr b="0" lang="en-US" sz="2800" spc="-1" strike="noStrike">
              <a:solidFill>
                <a:srgbClr val="ffffff"/>
              </a:solidFill>
              <a:latin typeface="Arial"/>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Else Does the Narrative Essay Need?</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is is a story, the narrative essay needs everything a story needs (these are known as the story eleme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lo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charac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clima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uses dialogue</a:t>
            </a:r>
            <a:endParaRPr b="0" lang="en-US" sz="2800" spc="-1" strike="noStrike">
              <a:solidFill>
                <a:srgbClr val="ffffff"/>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en Will I Use Narrative Essays?</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tells a simpl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not a deeply thought out synthesis, so this essay form should be used sparingly for college courses unless it is specifically assigned</a:t>
            </a:r>
            <a:endParaRPr b="0" lang="en-US" sz="3200" spc="-1" strike="noStrike">
              <a:solidFill>
                <a:srgbClr val="ffffff"/>
              </a:solidFill>
              <a:latin typeface="Arial"/>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nning the Narrative Essay</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153280" cy="4952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thesis statement, just as with any other essa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 for a personal story or observation that illustrates or proves the thesis statem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 or web the important parts of the story to be told</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n introductory paragraph that includes the thesis statement, and then write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is is a story, use as many paragraphs as necessary to tell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conclusion that reflects on the thesis statement</a:t>
            </a:r>
            <a:endParaRPr b="0" lang="en-US" sz="2800" spc="-1" strike="noStrike">
              <a:solidFill>
                <a:srgbClr val="ffffff"/>
              </a:solidFill>
              <a:latin typeface="Arial"/>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rt With a Thesis Statement</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will depend upon the story to be prov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can be something general in the case of a narrative essay. For example, you may write, “Oftentimes people do not follow simple directions. However, these campers learned just how important following directions can be.”</a:t>
            </a:r>
            <a:endParaRPr b="0" lang="en-US" sz="3200" spc="-1" strike="noStrike">
              <a:solidFill>
                <a:srgbClr val="ffffff"/>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Would You Expect From This Thesis?</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learn why following directions is importa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read a story about camp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here to be a twist in the action.</a:t>
            </a:r>
            <a:endParaRPr b="0" lang="en-US" sz="3200" spc="-1" strike="noStrike">
              <a:solidFill>
                <a:srgbClr val="ffffff"/>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line the Parts of the Story and Write Out the Story</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formal Outline of th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campers go camping and ignore rul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eave out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imal finds the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campers tries to scare off the anima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ers learn to follow the rules</a:t>
            </a:r>
            <a:endParaRPr b="0" lang="en-US" sz="3200" spc="-1" strike="noStrike">
              <a:solidFill>
                <a:srgbClr val="ffffff"/>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20:31:36Z</dcterms:created>
  <dc:creator>.</dc:creator>
  <dc:description/>
  <dc:language>en-US</dc:language>
  <cp:lastModifiedBy>Justin Pitcher</cp:lastModifiedBy>
  <dcterms:modified xsi:type="dcterms:W3CDTF">2009-09-18T20:18:46Z</dcterms:modified>
  <cp:revision>9</cp:revision>
  <dc:subject/>
  <dc:title>The Narrative Essay</dc:title>
</cp:coreProperties>
</file>