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7ADE-14E9-4EF2-B91D-6C8BE301E37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02E3-7278-4384-8B9E-8EE1DDF0C15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473A-94B5-4A19-B042-4C6FC22C216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B165-1FA5-4C1E-9541-1C2E6EF9F6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6817-D473-4F97-9162-50CB07C8F5F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0B3B-3ACF-492C-BEAC-6A9AFD649BD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4D14-42E6-4636-8F3D-D10BFFBBD60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C5B8-1225-443F-A0BB-CD9E888D434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2C7C-1F19-4D82-B4E5-8667A065F9D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1F6C-80BC-4DE2-A486-D6F1EA8D73C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DA05-8135-4126-B1D7-7C301DD88EC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0067-1F82-4897-A4B9-24706F46081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4E6D-4FF6-48F0-8421-FF780A83BBB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B63A-97CA-4F64-99AA-86B6D2AD73E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2070-A2A4-442B-A262-E611A88E0BD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CDB2-0EA0-495C-939E-2C8214C5949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2AC7-3F90-43FD-964C-ACF37B36285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6230-4652-4F5C-9BAB-16AE166C4D6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F158-5232-45AF-AE50-43EB931CDDE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9FFC-8291-4DC2-82F5-6A6DCEB1041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FBF0-61F3-4284-81B2-419CA65BF51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986D-6AFE-441F-97EF-4285D41AAD1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7791-C10B-411F-AA31-9E149C31F1C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FC67-0D15-4CC8-8218-7AF7B256BF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95AB-5731-43C3-9BEF-46F5E71A4EE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29B8-1ED5-4826-AFC1-B6E6F8CDB8E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B697-DF6E-439F-AA80-9DBBA196975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0FF8-AE8B-4091-BA83-7FE8DF99362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EAFD-FDD9-472F-A69F-B3D0790930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D328-B6F9-4950-BCEA-E8240588325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ED4B-5F10-4806-84C0-5909571EE9A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53AD-D7CA-4EFF-9286-BF3F224DE8C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7200-06DB-4A38-9CBC-77E47EF158F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0C94-764D-4180-B3F0-A3EB0307F31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FAD7-22E6-42F1-ABF8-E191FB8683E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0BA7-6D43-448B-9B75-4BB9BC42526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5816-05D1-439F-B18F-13902A19882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8BCE-C8C3-40BB-A85F-BA59C09D886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 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th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Justin Pitcher</cp:lastModifiedBy>
  <dcterms:modified xsi:type="dcterms:W3CDTF">2010-01-20T14:33:28Z</dcterms:modified>
  <cp:revision>342</cp:revision>
  <dc:subject/>
  <dc:title>Finding Your Focus</dc:title>
</cp:coreProperties>
</file>