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1840-250E-4933-B2D6-025718D4946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D8EF-C275-42CB-943D-BE3B81981AA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6BD3-49ED-4449-927E-7C9A27D880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F75E-D6A8-4981-AE4C-629F8122A04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0F77-2538-4376-8F43-37F5735A1D2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D7FD-15EB-42EB-B710-7AB21109FA9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5A90-6DF7-4CD7-A11B-500121A54DC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C580-BA06-49B9-B109-FFC8D2D2721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FDCE-A6EF-4420-9B66-70A709B217B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EBB6-3720-4F0D-B053-BDC5284DB30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4E3C-3E7A-47B1-8C09-A0EE9D9B567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7C2A-2C27-4D26-8987-070B32FB039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240D-B66F-4CC0-9F30-0170DEE6FEE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C77A-BF1F-485D-8F7B-C341054660D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C287-13EA-46C2-9402-A539480BFB8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D7FD-E445-4B70-8827-DB0BD9A3636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8954-CFD5-469A-95FE-620C8D4D261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B721-7541-4043-8039-DC936BD214D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3981-11BF-49F6-AAC5-ED726ECEC06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3158-568B-4D6A-B189-A1B78B8B561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E875-9D51-4853-8736-FEAB8E72DB0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50DB-895D-41E0-BE91-BD855298B67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8D29-8E28-4D62-A166-BE8FB8A5F57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2EDE-435B-4D08-9F38-B8C9F5D8937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0140-111B-4630-B76A-B1AC03E12B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DCD2-B5FF-4E4F-980D-9CC734180F2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0A47-1D1A-4FF5-AE0E-CE90E3A4EE8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4DB4-E12E-4E7C-82DB-0FB3AB3521A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B4D7-FBE7-4B94-AB46-DFE24B294BB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5F1F-F7F6-4E1F-B6C2-0B90289B53D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5611-709C-4299-B709-E82BCEBC9D3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5E3B-18A7-45D3-BF48-58F2E87FC00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9829-CCDB-4CEB-9850-57D47AF346F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6759-3905-4EC6-B1A6-7C2FF5BC627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EAEE-F70A-4A5A-945B-CE35D2D1018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B218-82F0-4EBC-9906-38928E6D9D5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42C8-B22F-4B65-BEB5-8A942E76B6B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C72E-E727-4372-A80A-70FE0CDDEB3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 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th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Justin Pitcher</cp:lastModifiedBy>
  <dcterms:modified xsi:type="dcterms:W3CDTF">2010-01-20T14:33:28Z</dcterms:modified>
  <cp:revision>342</cp:revision>
  <dc:subject/>
  <dc:title>Finding Your Focus</dc:title>
</cp:coreProperties>
</file>