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335-513B-471C-ACF8-A0B23DE8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FD8-6011-4544-8D26-61EE803E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9483-CA7F-4F8A-B6A4-ABEF82ED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BF1-8CD3-4DF8-A90E-7977802D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92E-7BB2-4061-BE88-A26394DA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6D4-B479-4723-A334-3D0629F8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69CD-C1CB-45ED-A7E9-7ECC1137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4D4-8B3D-4D5F-810F-3A991FCC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9C8-3B92-4AF8-A462-06559398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FE7-7548-4582-8972-6D0EB4F3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829-AF7A-489D-81F8-4EE397DE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12C-4E89-4A74-9177-EFACEAEE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E97C-84C2-4CC1-BDF5-025B416D29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Adverb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we begin think about adverbs what do you already k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85800" y="3808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Tahoma"/>
              </a:rPr>
              <a:t>Ad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762120" y="1981080"/>
            <a:ext cx="78422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ahoma"/>
              </a:rPr>
              <a:t>Adverb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describe verbs – they show us ‘how’ the action is carried ou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verbs sometimes end in “l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little boy scraped his knee and cried </a:t>
            </a:r>
            <a:r>
              <a:rPr b="0" lang="en-GB" sz="2400" spc="-1" strike="noStrike">
                <a:solidFill>
                  <a:srgbClr val="00cc99"/>
                </a:solidFill>
                <a:latin typeface="Tahoma"/>
              </a:rPr>
              <a:t>loudl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Sj03884870000[1].wav" descr=""/>
          <p:cNvPicPr/>
          <p:nvPr/>
        </p:nvPicPr>
        <p:blipFill>
          <a:blip r:embed="rId1"/>
          <a:stretch/>
        </p:blipFill>
        <p:spPr>
          <a:xfrm>
            <a:off x="8028000" y="371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j0232049"/>
          <p:cNvPicPr/>
          <p:nvPr/>
        </p:nvPicPr>
        <p:blipFill>
          <a:blip r:embed="rId2"/>
          <a:stretch/>
        </p:blipFill>
        <p:spPr>
          <a:xfrm>
            <a:off x="7380360" y="3068640"/>
            <a:ext cx="1249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33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Adverb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Adverbs are words that modify (describe) verbs, adjectives, or other adverb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dverbs tell </a:t>
            </a:r>
            <a:r>
              <a:rPr b="0" i="1" lang="en-US" sz="3200" spc="-1" strike="noStrike">
                <a:solidFill>
                  <a:srgbClr val="99ff33"/>
                </a:solidFill>
                <a:latin typeface="Times New Roman"/>
              </a:rPr>
              <a:t>how, when, where, how often, and how m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w look through your Writers Express book and find some different types of ad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685800" y="3808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Tahoma"/>
              </a:rPr>
              <a:t>Ad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26920" y="1844640"/>
            <a:ext cx="74678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adverbs are needed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y doll’s broken,” Alice mumb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dog jumped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orge ate the bu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MCPE02762_0000[1]"/>
          <p:cNvPicPr/>
          <p:nvPr/>
        </p:nvPicPr>
        <p:blipFill>
          <a:blip r:embed="rId1"/>
          <a:stretch/>
        </p:blipFill>
        <p:spPr>
          <a:xfrm>
            <a:off x="6804000" y="2708280"/>
            <a:ext cx="1008000" cy="893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Cj04080420000[1]"/>
          <p:cNvPicPr/>
          <p:nvPr/>
        </p:nvPicPr>
        <p:blipFill>
          <a:blip r:embed="rId2"/>
          <a:stretch/>
        </p:blipFill>
        <p:spPr>
          <a:xfrm>
            <a:off x="4572000" y="3716280"/>
            <a:ext cx="126684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345338"/>
          <p:cNvPicPr/>
          <p:nvPr/>
        </p:nvPicPr>
        <p:blipFill>
          <a:blip r:embed="rId3"/>
          <a:stretch/>
        </p:blipFill>
        <p:spPr>
          <a:xfrm>
            <a:off x="5580000" y="5084640"/>
            <a:ext cx="1150920" cy="936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6208560" y="352440"/>
            <a:ext cx="2756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dverbs tell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how, when, where, how often, and how mu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85800" y="3808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Tahoma"/>
              </a:rPr>
              <a:t>Ad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62120" y="1981080"/>
            <a:ext cx="7467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adverbs are needed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y doll’s broken,” Alice mumbled tearfu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dog jumped up exci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orge ate the burger greed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batted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ie’s team played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pitch curved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waited ________ for the next pi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tcher was ________ surpris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plays ______ from the first pitch to the last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042920" y="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Tahoma"/>
              </a:rPr>
              <a:t>Ad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762120" y="19810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619280" y="83664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Match the verbs with suitable adve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4500720" y="1268280"/>
            <a:ext cx="2592360" cy="180036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6551640" y="5057640"/>
            <a:ext cx="2592360" cy="180036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5003640" y="3573360"/>
            <a:ext cx="2592720" cy="180036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26"/>
          <p:cNvGrpSpPr/>
          <p:nvPr/>
        </p:nvGrpSpPr>
        <p:grpSpPr>
          <a:xfrm>
            <a:off x="1908000" y="2781360"/>
            <a:ext cx="2592360" cy="1800000"/>
            <a:chOff x="1908000" y="2781360"/>
            <a:chExt cx="2592360" cy="1800000"/>
          </a:xfrm>
        </p:grpSpPr>
        <p:sp>
          <p:nvSpPr>
            <p:cNvPr id="66" name="AutoShape 6"/>
            <p:cNvSpPr/>
            <p:nvPr/>
          </p:nvSpPr>
          <p:spPr>
            <a:xfrm>
              <a:off x="1908000" y="2781360"/>
              <a:ext cx="2592360" cy="1800000"/>
            </a:xfrm>
            <a:prstGeom prst="irregularSeal1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8"/>
            <p:cNvSpPr/>
            <p:nvPr/>
          </p:nvSpPr>
          <p:spPr>
            <a:xfrm>
              <a:off x="2339640" y="3429000"/>
              <a:ext cx="18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Gothic"/>
                </a:rPr>
                <a:t>He charg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31"/>
          <p:cNvGrpSpPr/>
          <p:nvPr/>
        </p:nvGrpSpPr>
        <p:grpSpPr>
          <a:xfrm>
            <a:off x="2771640" y="5057640"/>
            <a:ext cx="2592360" cy="1800360"/>
            <a:chOff x="2771640" y="5057640"/>
            <a:chExt cx="2592360" cy="1800360"/>
          </a:xfrm>
        </p:grpSpPr>
        <p:sp>
          <p:nvSpPr>
            <p:cNvPr id="69" name="AutoShape 9"/>
            <p:cNvSpPr/>
            <p:nvPr/>
          </p:nvSpPr>
          <p:spPr>
            <a:xfrm>
              <a:off x="2771640" y="5057640"/>
              <a:ext cx="2592360" cy="1800360"/>
            </a:xfrm>
            <a:prstGeom prst="irregularSeal1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9"/>
            <p:cNvSpPr/>
            <p:nvPr/>
          </p:nvSpPr>
          <p:spPr>
            <a:xfrm>
              <a:off x="3456000" y="5661000"/>
              <a:ext cx="1295280" cy="45972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entury Gothic"/>
                </a:rPr>
                <a:t>She f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27"/>
          <p:cNvGrpSpPr/>
          <p:nvPr/>
        </p:nvGrpSpPr>
        <p:grpSpPr>
          <a:xfrm>
            <a:off x="250920" y="1484280"/>
            <a:ext cx="2592360" cy="1800000"/>
            <a:chOff x="250920" y="1484280"/>
            <a:chExt cx="2592360" cy="1800000"/>
          </a:xfrm>
        </p:grpSpPr>
        <p:sp>
          <p:nvSpPr>
            <p:cNvPr id="72" name="AutoShape 7"/>
            <p:cNvSpPr/>
            <p:nvPr/>
          </p:nvSpPr>
          <p:spPr>
            <a:xfrm>
              <a:off x="250920" y="1484280"/>
              <a:ext cx="2592360" cy="1800000"/>
            </a:xfrm>
            <a:prstGeom prst="irregularSeal1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006560" y="2131920"/>
              <a:ext cx="122400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Gothic"/>
                </a:rPr>
                <a:t>He sl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AutoShape 21"/>
          <p:cNvSpPr/>
          <p:nvPr/>
        </p:nvSpPr>
        <p:spPr>
          <a:xfrm>
            <a:off x="6551640" y="2276640"/>
            <a:ext cx="2592360" cy="18000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5"/>
          <p:cNvSpPr/>
          <p:nvPr/>
        </p:nvSpPr>
        <p:spPr>
          <a:xfrm>
            <a:off x="5003640" y="3573360"/>
            <a:ext cx="2592720" cy="1800360"/>
          </a:xfrm>
          <a:prstGeom prst="irregularSeal1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9"/>
          <p:cNvGrpSpPr/>
          <p:nvPr/>
        </p:nvGrpSpPr>
        <p:grpSpPr>
          <a:xfrm>
            <a:off x="395280" y="4076640"/>
            <a:ext cx="2592360" cy="1800000"/>
            <a:chOff x="395280" y="4076640"/>
            <a:chExt cx="2592360" cy="1800000"/>
          </a:xfrm>
        </p:grpSpPr>
        <p:sp>
          <p:nvSpPr>
            <p:cNvPr id="77" name="AutoShape 22"/>
            <p:cNvSpPr/>
            <p:nvPr/>
          </p:nvSpPr>
          <p:spPr>
            <a:xfrm>
              <a:off x="395280" y="4076640"/>
              <a:ext cx="2592360" cy="180000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4"/>
            <p:cNvSpPr/>
            <p:nvPr/>
          </p:nvSpPr>
          <p:spPr>
            <a:xfrm>
              <a:off x="900360" y="4724280"/>
              <a:ext cx="1728720" cy="398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Gothic"/>
                </a:rPr>
                <a:t>She wai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Text Box 17"/>
          <p:cNvSpPr/>
          <p:nvPr/>
        </p:nvSpPr>
        <p:spPr>
          <a:xfrm>
            <a:off x="5580000" y="4221000"/>
            <a:ext cx="13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furi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28"/>
          <p:cNvSpPr/>
          <p:nvPr/>
        </p:nvSpPr>
        <p:spPr>
          <a:xfrm>
            <a:off x="6551640" y="5057640"/>
            <a:ext cx="2592360" cy="180036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7093080" y="5805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u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0"/>
          <p:cNvSpPr/>
          <p:nvPr/>
        </p:nvSpPr>
        <p:spPr>
          <a:xfrm>
            <a:off x="6551640" y="2276640"/>
            <a:ext cx="2592360" cy="18000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7020000" y="2924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pati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2"/>
          <p:cNvSpPr/>
          <p:nvPr/>
        </p:nvSpPr>
        <p:spPr>
          <a:xfrm>
            <a:off x="4500720" y="1268280"/>
            <a:ext cx="2592360" cy="1800360"/>
          </a:xfrm>
          <a:prstGeom prst="irregularSeal1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5003640" y="184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eav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85800" y="3808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Tahoma"/>
              </a:rPr>
              <a:t>Ad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762120" y="19810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1187280" y="1484280"/>
            <a:ext cx="6626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dverbs show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entury Gothic"/>
              </a:rPr>
              <a:t>how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the action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hat is the most appropriate adverb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755640" y="422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 dog ba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4356000" y="3141720"/>
            <a:ext cx="144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l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4356000" y="4221000"/>
            <a:ext cx="144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er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4356000" y="5300640"/>
            <a:ext cx="144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furi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6" descr="j0312238"/>
          <p:cNvPicPr/>
          <p:nvPr/>
        </p:nvPicPr>
        <p:blipFill>
          <a:blip r:embed="rId1"/>
          <a:stretch/>
        </p:blipFill>
        <p:spPr>
          <a:xfrm>
            <a:off x="6227640" y="3500280"/>
            <a:ext cx="2266920" cy="165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7" descr="MCj03399940000[1]"/>
          <p:cNvPicPr/>
          <p:nvPr/>
        </p:nvPicPr>
        <p:blipFill>
          <a:blip r:embed="rId2"/>
          <a:stretch/>
        </p:blipFill>
        <p:spPr>
          <a:xfrm>
            <a:off x="5796000" y="2924280"/>
            <a:ext cx="790560" cy="88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8" descr="MCj03399940000[1]"/>
          <p:cNvPicPr/>
          <p:nvPr/>
        </p:nvPicPr>
        <p:blipFill>
          <a:blip r:embed="rId3"/>
          <a:stretch/>
        </p:blipFill>
        <p:spPr>
          <a:xfrm>
            <a:off x="5867280" y="4005360"/>
            <a:ext cx="790560" cy="885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9" descr="MCj03799530000[1]"/>
          <p:cNvPicPr/>
          <p:nvPr/>
        </p:nvPicPr>
        <p:blipFill>
          <a:blip r:embed="rId4"/>
          <a:stretch/>
        </p:blipFill>
        <p:spPr>
          <a:xfrm>
            <a:off x="5867280" y="5084640"/>
            <a:ext cx="1079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17:52:16Z</dcterms:created>
  <dc:creator>Sara Williams</dc:creator>
  <dc:description/>
  <dc:language>en-US</dc:language>
  <cp:lastModifiedBy>justin.pitcher</cp:lastModifiedBy>
  <dcterms:modified xsi:type="dcterms:W3CDTF">2009-10-12T16:02:56Z</dcterms:modified>
  <cp:revision>11</cp:revision>
  <dc:subject/>
  <dc:title>PowerPoint Presentation</dc:title>
</cp:coreProperties>
</file>