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4251-1505-40AA-92D7-2750D4E7E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DB15-6C91-481C-B231-79DEEEE3F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BC9C-EB14-4E07-A852-EB1A49458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6058-D619-4567-96AF-E6CFFCC39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F2EB-B9B8-40CD-9CFF-A65444C47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EF4D-C237-43B4-8216-1575356AD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1B2A-7662-4DD6-889C-1C0540845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7F47-3C46-4744-A855-9BDA44D77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6EA9-1A4C-4298-94F9-ED9233698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A74F-34C9-4257-A3ED-E5DE07114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66CB-8F92-47E5-9819-85B3DF42B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7B9D-0542-4A1C-8106-2C4BDE3B2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9C416-2C71-48F4-B47B-2D25D3923B3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Adverb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fore we begin think about adverbs what do you already know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685800" y="380880"/>
            <a:ext cx="7391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cc99"/>
                </a:solidFill>
                <a:latin typeface="Tahoma"/>
              </a:rPr>
              <a:t>Adverb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762120" y="1981080"/>
            <a:ext cx="784224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Tahoma"/>
              </a:rPr>
              <a:t>Adverbs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describe verbs – they show us ‘how’ the action is carried out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dverbs sometimes end in “l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or 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 little boy scraped his knee and cried </a:t>
            </a:r>
            <a:r>
              <a:rPr b="0" lang="en-GB" sz="2400" spc="-1" strike="noStrike">
                <a:solidFill>
                  <a:srgbClr val="00cc99"/>
                </a:solidFill>
                <a:latin typeface="Tahoma"/>
              </a:rPr>
              <a:t>loudly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MSj03884870000[1].wav" descr=""/>
          <p:cNvPicPr/>
          <p:nvPr/>
        </p:nvPicPr>
        <p:blipFill>
          <a:blip r:embed="rId1"/>
          <a:stretch/>
        </p:blipFill>
        <p:spPr>
          <a:xfrm>
            <a:off x="8028000" y="3716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j0232049"/>
          <p:cNvPicPr/>
          <p:nvPr/>
        </p:nvPicPr>
        <p:blipFill>
          <a:blip r:embed="rId2"/>
          <a:stretch/>
        </p:blipFill>
        <p:spPr>
          <a:xfrm>
            <a:off x="7380360" y="3068640"/>
            <a:ext cx="124920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33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Adverb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Adverbs are words that modify (describe) verbs, adjectives, or other adverb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Adverbs tell </a:t>
            </a:r>
            <a:r>
              <a:rPr b="0" i="1" lang="en-US" sz="3200" spc="-1" strike="noStrike">
                <a:solidFill>
                  <a:srgbClr val="99ff33"/>
                </a:solidFill>
                <a:latin typeface="Times New Roman"/>
              </a:rPr>
              <a:t>how, when, where, how often, and how mu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ow look through your Writers Express book and find some different types of adverb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685800" y="380880"/>
            <a:ext cx="7391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cc99"/>
                </a:solidFill>
                <a:latin typeface="Tahoma"/>
              </a:rPr>
              <a:t>Adverb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826920" y="1844640"/>
            <a:ext cx="74678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hat adverbs are needed 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y doll’s broken,” Alice mumbl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 dog jumped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eorge ate the bur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6" descr="MCPE02762_0000[1]"/>
          <p:cNvPicPr/>
          <p:nvPr/>
        </p:nvPicPr>
        <p:blipFill>
          <a:blip r:embed="rId1"/>
          <a:stretch/>
        </p:blipFill>
        <p:spPr>
          <a:xfrm>
            <a:off x="6804000" y="2708280"/>
            <a:ext cx="1008000" cy="893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MCj04080420000[1]"/>
          <p:cNvPicPr/>
          <p:nvPr/>
        </p:nvPicPr>
        <p:blipFill>
          <a:blip r:embed="rId2"/>
          <a:stretch/>
        </p:blipFill>
        <p:spPr>
          <a:xfrm>
            <a:off x="4572000" y="3716280"/>
            <a:ext cx="1266840" cy="11462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j0345338"/>
          <p:cNvPicPr/>
          <p:nvPr/>
        </p:nvPicPr>
        <p:blipFill>
          <a:blip r:embed="rId3"/>
          <a:stretch/>
        </p:blipFill>
        <p:spPr>
          <a:xfrm>
            <a:off x="5580000" y="5084640"/>
            <a:ext cx="1150920" cy="9367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0"/>
          <p:cNvSpPr/>
          <p:nvPr/>
        </p:nvSpPr>
        <p:spPr>
          <a:xfrm>
            <a:off x="6208560" y="352440"/>
            <a:ext cx="2756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dverbs tell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how, when, where, how often, and how mu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685800" y="380880"/>
            <a:ext cx="7391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cc99"/>
                </a:solidFill>
                <a:latin typeface="Tahoma"/>
              </a:rPr>
              <a:t>Adverb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762120" y="1981080"/>
            <a:ext cx="74674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hat adverbs are needed 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y doll’s broken,” Alice mumbled tearful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 dog jumped up excited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eorge ate the burger greed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Ad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x batted__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ie’s team played___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irst pitch curved 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x waited ________ for the next pit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atcher was ________ surprise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x plays ______ from the first pitch to the last o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1042920" y="0"/>
            <a:ext cx="7391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cc99"/>
                </a:solidFill>
                <a:latin typeface="Tahoma"/>
              </a:rPr>
              <a:t>Adverb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762120" y="19810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1619280" y="836640"/>
            <a:ext cx="59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entury Gothic"/>
              </a:rPr>
              <a:t>Match the verbs with suitable adver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5"/>
          <p:cNvSpPr/>
          <p:nvPr/>
        </p:nvSpPr>
        <p:spPr>
          <a:xfrm>
            <a:off x="4500720" y="1268280"/>
            <a:ext cx="2592360" cy="1800360"/>
          </a:xfrm>
          <a:prstGeom prst="irregularSeal1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8"/>
          <p:cNvSpPr/>
          <p:nvPr/>
        </p:nvSpPr>
        <p:spPr>
          <a:xfrm>
            <a:off x="6551640" y="5057640"/>
            <a:ext cx="2592360" cy="1800360"/>
          </a:xfrm>
          <a:prstGeom prst="irregularSeal1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10"/>
          <p:cNvSpPr/>
          <p:nvPr/>
        </p:nvSpPr>
        <p:spPr>
          <a:xfrm>
            <a:off x="5003640" y="3573360"/>
            <a:ext cx="2592720" cy="1800360"/>
          </a:xfrm>
          <a:prstGeom prst="irregularSeal1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Group 26"/>
          <p:cNvGrpSpPr/>
          <p:nvPr/>
        </p:nvGrpSpPr>
        <p:grpSpPr>
          <a:xfrm>
            <a:off x="1908000" y="2781360"/>
            <a:ext cx="2592360" cy="1800000"/>
            <a:chOff x="1908000" y="2781360"/>
            <a:chExt cx="2592360" cy="1800000"/>
          </a:xfrm>
        </p:grpSpPr>
        <p:sp>
          <p:nvSpPr>
            <p:cNvPr id="66" name="AutoShape 6"/>
            <p:cNvSpPr/>
            <p:nvPr/>
          </p:nvSpPr>
          <p:spPr>
            <a:xfrm>
              <a:off x="1908000" y="2781360"/>
              <a:ext cx="2592360" cy="1800000"/>
            </a:xfrm>
            <a:prstGeom prst="irregularSeal1">
              <a:avLst/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Text Box 18"/>
            <p:cNvSpPr/>
            <p:nvPr/>
          </p:nvSpPr>
          <p:spPr>
            <a:xfrm>
              <a:off x="2339640" y="3429000"/>
              <a:ext cx="187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entury Gothic"/>
                </a:rPr>
                <a:t>He charg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Group 31"/>
          <p:cNvGrpSpPr/>
          <p:nvPr/>
        </p:nvGrpSpPr>
        <p:grpSpPr>
          <a:xfrm>
            <a:off x="2771640" y="5057640"/>
            <a:ext cx="2592360" cy="1800360"/>
            <a:chOff x="2771640" y="5057640"/>
            <a:chExt cx="2592360" cy="1800360"/>
          </a:xfrm>
        </p:grpSpPr>
        <p:sp>
          <p:nvSpPr>
            <p:cNvPr id="69" name="AutoShape 9"/>
            <p:cNvSpPr/>
            <p:nvPr/>
          </p:nvSpPr>
          <p:spPr>
            <a:xfrm>
              <a:off x="2771640" y="5057640"/>
              <a:ext cx="2592360" cy="1800360"/>
            </a:xfrm>
            <a:prstGeom prst="irregularSeal1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19"/>
            <p:cNvSpPr/>
            <p:nvPr/>
          </p:nvSpPr>
          <p:spPr>
            <a:xfrm>
              <a:off x="3456000" y="5661000"/>
              <a:ext cx="1295280" cy="45972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entury Gothic"/>
                </a:rPr>
                <a:t>She fe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Group 27"/>
          <p:cNvGrpSpPr/>
          <p:nvPr/>
        </p:nvGrpSpPr>
        <p:grpSpPr>
          <a:xfrm>
            <a:off x="250920" y="1484280"/>
            <a:ext cx="2592360" cy="1800000"/>
            <a:chOff x="250920" y="1484280"/>
            <a:chExt cx="2592360" cy="1800000"/>
          </a:xfrm>
        </p:grpSpPr>
        <p:sp>
          <p:nvSpPr>
            <p:cNvPr id="72" name="AutoShape 7"/>
            <p:cNvSpPr/>
            <p:nvPr/>
          </p:nvSpPr>
          <p:spPr>
            <a:xfrm>
              <a:off x="250920" y="1484280"/>
              <a:ext cx="2592360" cy="1800000"/>
            </a:xfrm>
            <a:prstGeom prst="irregularSeal1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Text Box 20"/>
            <p:cNvSpPr/>
            <p:nvPr/>
          </p:nvSpPr>
          <p:spPr>
            <a:xfrm>
              <a:off x="1006560" y="2131920"/>
              <a:ext cx="1224000" cy="3988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entury Gothic"/>
                </a:rPr>
                <a:t>He sl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AutoShape 21"/>
          <p:cNvSpPr/>
          <p:nvPr/>
        </p:nvSpPr>
        <p:spPr>
          <a:xfrm>
            <a:off x="6551640" y="2276640"/>
            <a:ext cx="2592360" cy="1800000"/>
          </a:xfrm>
          <a:prstGeom prst="irregularSeal1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25"/>
          <p:cNvSpPr/>
          <p:nvPr/>
        </p:nvSpPr>
        <p:spPr>
          <a:xfrm>
            <a:off x="5003640" y="3573360"/>
            <a:ext cx="2592720" cy="1800360"/>
          </a:xfrm>
          <a:prstGeom prst="irregularSeal1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Group 29"/>
          <p:cNvGrpSpPr/>
          <p:nvPr/>
        </p:nvGrpSpPr>
        <p:grpSpPr>
          <a:xfrm>
            <a:off x="395280" y="4076640"/>
            <a:ext cx="2592360" cy="1800000"/>
            <a:chOff x="395280" y="4076640"/>
            <a:chExt cx="2592360" cy="1800000"/>
          </a:xfrm>
        </p:grpSpPr>
        <p:sp>
          <p:nvSpPr>
            <p:cNvPr id="77" name="AutoShape 22"/>
            <p:cNvSpPr/>
            <p:nvPr/>
          </p:nvSpPr>
          <p:spPr>
            <a:xfrm>
              <a:off x="395280" y="4076640"/>
              <a:ext cx="2592360" cy="1800000"/>
            </a:xfrm>
            <a:prstGeom prst="irregularSeal1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Text Box 24"/>
            <p:cNvSpPr/>
            <p:nvPr/>
          </p:nvSpPr>
          <p:spPr>
            <a:xfrm>
              <a:off x="900360" y="4724280"/>
              <a:ext cx="1728720" cy="3988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entury Gothic"/>
                </a:rPr>
                <a:t>She wai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Text Box 17"/>
          <p:cNvSpPr/>
          <p:nvPr/>
        </p:nvSpPr>
        <p:spPr>
          <a:xfrm>
            <a:off x="5580000" y="4221000"/>
            <a:ext cx="136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furious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28"/>
          <p:cNvSpPr/>
          <p:nvPr/>
        </p:nvSpPr>
        <p:spPr>
          <a:xfrm>
            <a:off x="6551640" y="5057640"/>
            <a:ext cx="2592360" cy="180036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6"/>
          <p:cNvSpPr/>
          <p:nvPr/>
        </p:nvSpPr>
        <p:spPr>
          <a:xfrm>
            <a:off x="7093080" y="580536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sound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30"/>
          <p:cNvSpPr/>
          <p:nvPr/>
        </p:nvSpPr>
        <p:spPr>
          <a:xfrm>
            <a:off x="6551640" y="2276640"/>
            <a:ext cx="2592360" cy="1800000"/>
          </a:xfrm>
          <a:prstGeom prst="irregularSeal1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23"/>
          <p:cNvSpPr/>
          <p:nvPr/>
        </p:nvSpPr>
        <p:spPr>
          <a:xfrm>
            <a:off x="7020000" y="292428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Gothic"/>
              </a:rPr>
              <a:t>patient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32"/>
          <p:cNvSpPr/>
          <p:nvPr/>
        </p:nvSpPr>
        <p:spPr>
          <a:xfrm>
            <a:off x="4500720" y="1268280"/>
            <a:ext cx="2592360" cy="1800360"/>
          </a:xfrm>
          <a:prstGeom prst="irregularSeal1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5"/>
          <p:cNvSpPr/>
          <p:nvPr/>
        </p:nvSpPr>
        <p:spPr>
          <a:xfrm>
            <a:off x="5003640" y="1844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heav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685800" y="380880"/>
            <a:ext cx="7391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cc99"/>
                </a:solidFill>
                <a:latin typeface="Tahoma"/>
              </a:rPr>
              <a:t>Adverb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762120" y="19810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21"/>
          <p:cNvSpPr/>
          <p:nvPr/>
        </p:nvSpPr>
        <p:spPr>
          <a:xfrm>
            <a:off x="1187280" y="1484280"/>
            <a:ext cx="6626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Adverbs show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entury Gothic"/>
              </a:rPr>
              <a:t>how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 the action happe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What is the most appropriate adverb 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22"/>
          <p:cNvSpPr/>
          <p:nvPr/>
        </p:nvSpPr>
        <p:spPr>
          <a:xfrm>
            <a:off x="755640" y="422100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The dog bar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23"/>
          <p:cNvSpPr/>
          <p:nvPr/>
        </p:nvSpPr>
        <p:spPr>
          <a:xfrm>
            <a:off x="4356000" y="3141720"/>
            <a:ext cx="1440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len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24"/>
          <p:cNvSpPr/>
          <p:nvPr/>
        </p:nvSpPr>
        <p:spPr>
          <a:xfrm>
            <a:off x="4356000" y="4221000"/>
            <a:ext cx="1440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eer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25"/>
          <p:cNvSpPr/>
          <p:nvPr/>
        </p:nvSpPr>
        <p:spPr>
          <a:xfrm>
            <a:off x="4356000" y="5300640"/>
            <a:ext cx="1440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furious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26" descr="j0312238"/>
          <p:cNvPicPr/>
          <p:nvPr/>
        </p:nvPicPr>
        <p:blipFill>
          <a:blip r:embed="rId1"/>
          <a:stretch/>
        </p:blipFill>
        <p:spPr>
          <a:xfrm>
            <a:off x="6227640" y="3500280"/>
            <a:ext cx="2266920" cy="1656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7" descr="MCj03399940000[1]"/>
          <p:cNvPicPr/>
          <p:nvPr/>
        </p:nvPicPr>
        <p:blipFill>
          <a:blip r:embed="rId2"/>
          <a:stretch/>
        </p:blipFill>
        <p:spPr>
          <a:xfrm>
            <a:off x="5796000" y="2924280"/>
            <a:ext cx="790560" cy="885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8" descr="MCj03399940000[1]"/>
          <p:cNvPicPr/>
          <p:nvPr/>
        </p:nvPicPr>
        <p:blipFill>
          <a:blip r:embed="rId3"/>
          <a:stretch/>
        </p:blipFill>
        <p:spPr>
          <a:xfrm>
            <a:off x="5867280" y="4005360"/>
            <a:ext cx="790560" cy="885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9" descr="MCj03799530000[1]"/>
          <p:cNvPicPr/>
          <p:nvPr/>
        </p:nvPicPr>
        <p:blipFill>
          <a:blip r:embed="rId4"/>
          <a:stretch/>
        </p:blipFill>
        <p:spPr>
          <a:xfrm>
            <a:off x="5867280" y="5084640"/>
            <a:ext cx="1079640" cy="9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0T17:52:16Z</dcterms:created>
  <dc:creator>Sara Williams</dc:creator>
  <dc:description/>
  <dc:language>en-US</dc:language>
  <cp:lastModifiedBy>justin.pitcher</cp:lastModifiedBy>
  <dcterms:modified xsi:type="dcterms:W3CDTF">2009-10-12T16:02:56Z</dcterms:modified>
  <cp:revision>11</cp:revision>
  <dc:subject/>
  <dc:title>PowerPoint Presentation</dc:title>
</cp:coreProperties>
</file>