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707-BF4C-4E05-8ED5-932F41D0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27D-3B1C-4BA0-B4A7-021031B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E35-E582-4AC1-BD1E-70C7DC16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73D-10CE-4E7C-BB69-4A7C9484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FCCC-6D59-4364-87CC-B741DF21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FEA8-2447-42BC-B3FE-7294B99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39C3-597E-4E3D-BD57-5297BFBA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4947-49FC-41DE-967B-A0FAE3F4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19A1-6360-438F-A9BD-5A8C98EA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1D82-45CB-4A84-83D8-FB9F3F3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5F5F-E2B8-43A4-9BD1-85D06AA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89B-028D-4231-AB0E-F00E8683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2FB6-783B-41BC-AE68-0C338342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C83-E981-4F04-A9E7-884EFD28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7D18-C39C-4D62-B784-C9370938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B868-97E3-4E79-9A15-B54F366C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15CC-E250-4497-B077-12564D78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4F1-6CF0-4154-B0B8-BB623145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990-173E-4AF0-80CC-54EEA4B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63D-CEA6-4EEC-A618-47ED258F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CD0-7E0E-4564-AB8F-2D20A671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3BC-B6D4-4877-ACF5-66911F28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4F1-F301-4AEE-ADE6-CB1ABFB8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AB8-F386-4DF2-9462-BBE24483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A74-A653-4373-A408-9D50BE5969F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5937-635F-455A-9E8F-A76C1B47A27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myfivestarwedding.com/images/Five_stars.gif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oemhunter.com/poem/obesity-in-america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bSj9d1P72sc&amp;feature=fvw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tichokes Heart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y Suzanne Supple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1447920" y="48006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By Dominique Maack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278784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lling Action/ Resolu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loses a lot of weight with her friend Kay-Kay by her si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opens up with her mom and grows a better relationship with her and her aunt Ma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etting and Them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is in a small town, in Tennessee. A majority of the story takes place in Heavenly Hair. There is gossip from “The Quilters”, clients that are sometimes unwanted, and family issues that takes pla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t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give this book an 8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was fun to read but the ending wasn’t finished off we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felt like the story was really built up with no ending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would be a good book for a girl to read because it involved the stresses of a girl and how she got through her problem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04920"/>
            <a:ext cx="3505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ocial Issue: Weight Problems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(Obesity and Anorexia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Obesity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Obesity in children in a rising epidem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ing supplements instead of natural healthy diets and exercise. Crushing our healthcare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 has the highest obesity rat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181480" y="380880"/>
            <a:ext cx="2210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en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In society today and the latest growing yea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Parents don’t promote healthy eating habits, school lunch could be much much healthier, and manufacturing companies advertising junk foo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Make parents aware, change school lunches, grow more will power to not give into manufacture’s, and allow more exercise in schools and outside schoo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against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hould schools only serve healthy food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ids wouldn’t purchase as much if only offered healthy foo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ools sometimes get funded from the companies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provide junk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Fo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would lower obesity rates among children and teach them better habits for when they’re ol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es a better ability to concentrate among children due to the vitamins and nutrients in the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motes healthy food eating outside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 in 5 children in the US are diagnosed with obesit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arter of children in the population don’t exerci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most two-thirds (about 66%) of U.S. adults age 20 or older are overweight. About 62% of women and around 71% of me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e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06632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day we shall, at your reques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ook at the bulge below your ches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scourge of gross obesity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nslaves the country of the fre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s it just portions, giant plates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r lunches shouted by kind mates, 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erhaps the coffee with thick cream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at bulges boldly near the seam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experts say the cause is FA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you try it but soon smell a ra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wo thirds of Yanks are now obese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ith jelly-bellies and trick kne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y do their shopping in the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Mall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hirts are marked as Big and Tall.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And where they have a House of Pies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taff will tell them soothing lies……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co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youtube.com/watch?v=bSj9d1P72sc&amp;feature=fv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thor: Suzanne Supple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grew up in Tenness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lives near Baltimore, Maryl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ried and has three daught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19810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orexi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norexia is primarily a disorder of females. Only rarely is it found in males. Usually diagnosed when the young person is between the ages of 15 and 2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lso crushing our healthcare system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he 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n?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society to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237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600200"/>
            <a:ext cx="743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person with a family member who has had an eating disorder is at higher risk for developing anorexia. Also, mood disorders are seen more frequently in families where someone has anorex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diagnosis of anorexia is made when the anorexic either loses fifteen percent (15%) of their weight or when the growing child fails to acquire eighty-five percent (85%) of the minimal weight for their particular age and height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the United States approximately 7 out of every 100 females have some form of eating disor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search shows that anorexia is found in about one percent (1%) of young women in their late adolescence or early adulthood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Healthy Weight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 adults, an ideal BMI is between 18.5 and 24.9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ov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24.9 is considered over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18.5 is considered underweigh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2743200" cy="2009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4471920" cy="297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1749240" cy="2619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1143000" y="228600"/>
            <a:ext cx="1851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Vu3DL_yAZSM&amp;NR=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otagonist: Rosemary Warr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with her weight and crave of delicious foods. She’s teased by kids and harassed by her family to lose 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ttends high school and works at her mother’s hair salon: Heavenly Hair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to work the weight off for herself, not for othe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tagonist’s: Aunt Mary and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e’s Rosemary’s aunt. She never deals with her own problems but always points out everyone else’s. She always harasses Rosemary to lose weight and blames her mothers problems on 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Bluebirds are the popular girls a school. They’re fit and have all the guys. They are the cruelest to people outside they’re group, especially Rosema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vorite Character: Kay-Kay Rees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was part of the bluebirds but left the group because she couldn’t be mean to anyon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’s pretty, athletic, she befriends Rosey and helps her lose her weight throughout the book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llows Rosey to open up and share her feelings with 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ast Favorite Character: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cause they are nothing but mean to peop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ising A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introduces Rosmary and her family, Mother: R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nt: M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andma: Geor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d all of them trying to get Rosey to lose weight by buying her a treadmi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is balancing school, her moms cancer, her aunts nagging, and her job at her mother’s sal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r mother cares too much about other people and doesn’t take care of herself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max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becomes interested in a boy, Kyle Co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yle shows that he’s interested in her and they become boyfriend and girlfrien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triggers her to want to lose weigh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2:50:00Z</dcterms:created>
  <dc:creator>John Maack</dc:creator>
  <dc:description/>
  <dc:language>en-US</dc:language>
  <cp:lastModifiedBy>John Maack</cp:lastModifiedBy>
  <dcterms:modified xsi:type="dcterms:W3CDTF">2010-03-03T05:22:08Z</dcterms:modified>
  <cp:revision>2</cp:revision>
  <dc:subject/>
  <dc:title>Artichokes Heart      By Suzanne Suppl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