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EE3-F30C-491E-805B-AABAD829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094-C42D-42C8-9662-3D1742E8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54A-014D-47FF-9F47-7232E5CC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24A-9845-43BB-8796-C03D4B8A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19E8-6FA9-4062-AB82-24B28DBD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7762-02D4-4D6C-9B1C-1252764F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5CAF-CDDF-4CBD-88EF-EA432F57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F072-DEE7-4E29-8F4B-DFB1C69A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FAFC-646C-4299-8FEF-06A75EF7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13A4-99AE-4339-8498-229427A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116A-908D-4AA7-8245-E132C591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A77-7660-461D-8F41-CAA9BB47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ADE1-9462-4977-AF6A-267E3F0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B33E-DA20-4188-BE06-5CBEE6EE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7F8F-9AFE-4319-83C4-57DC5B5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1C3E-6A41-4378-818F-656D802E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7B6-A607-4AD1-B2DF-85448E93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8F9-2F15-4BED-A715-50FEF7D3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5ED-E9BA-4FC8-A233-268A83F9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3A3-B820-4D47-A0C6-B0A7C21A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C3D-A838-4C68-8F7D-4DF4038C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788-50B3-44BD-B2DF-E4EF3CB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94B-16E0-4DD3-AB48-1A0187E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153-7A3A-4500-9DF3-F252AF83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22EE-1B2B-443D-8659-1C4F16F1099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3B98-111A-4E57-953F-088D9047F6F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myfivestarwedding.com/images/Five_stars.gif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oemhunter.com/poem/obesity-in-america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bSj9d1P72sc&amp;feature=fvw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tichokes Heart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By Suzanne Supple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1447920" y="48006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By Dominique Maack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278784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alling Action/ Resolu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loses a lot of weight with her friend Kay-Kay by her sid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opens up with her mom and grows a better relationship with her and her aunt Mar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etting and Them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tory is in a small town, in Tennessee. A majority of the story takes place in Heavenly Hair. There is gossip from “The Quilters”, clients that are sometimes unwanted, and family issues that takes pla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at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give this book an 8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tory was fun to read but the ending wasn’t finished off wel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felt like the story was really built up with no ending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would be a good book for a girl to read because it involved the stresses of a girl and how she got through her problem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04920"/>
            <a:ext cx="3505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ocial Issue: Weight Problems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(Obesity and Anorexia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Obesity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o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Obesity in children in a rising epidem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at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sing supplements instead of natural healthy diets and exercise. Crushing our healthcare syst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re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S has the highest obesity rat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181480" y="380880"/>
            <a:ext cx="2210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inu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en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In society today and the latest growing yea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y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Parents don’t promote healthy eating habits, school lunch could be much much healthier, and manufacturing companies advertising junk foo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Make parents aware, change school lunches, grow more will power to not give into manufacture’s, and allow more exercise in schools and outside schoo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uments against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hould schools only serve healthy food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ids wouldn’t purchase as much if only offered healthy foo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chools sometimes get funded from the companies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provide junk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uments Fo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would lower obesity rates among children and teach them better habits for when they’re old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ates a better ability to concentrate among children due to the vitamins and nutrients in the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motes healthy food eating outside schoo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ist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 in 5 children in the US are diagnosed with obesit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arter of children in the population don’t exercis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most two-thirds (about 66%) of U.S. adults age 20 or older are overweight. About 62% of women and around 71% of me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e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06632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oday we shall, at your request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look at the bulge below your chest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scourge of gross obesity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nslaves the country of the fre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s it just portions, giant plates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r lunches shouted by kind mates, 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erhaps the coffee with thick cream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at bulges boldly near the seam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experts say the cause is FAT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you try it but soon smell a rat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wo thirds of Yanks are now obese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ith jelly-bellies and trick knee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y do their shopping in the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Mall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here shirts are marked as Big and Tall.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And where they have a House of Pies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here staff will tell them soothing lies……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co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.youtube.com/watch?v=bSj9d1P72sc&amp;feature=fv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thor: Suzanne Supple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grew up in Tennesse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lives near Baltimore, Maryla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rried and has three daught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19810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orexi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o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norexia is primarily a disorder of females. Only rarely is it found in males. Usually diagnosed when the young person is between the ages of 15 and 2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at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lso crushing our healthcare system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re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The 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n?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society toda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237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inu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600200"/>
            <a:ext cx="743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y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he person with a family member who has had an eating disorder is at higher risk for developing anorexia. Also, mood disorders are seen more frequently in families where someone has anorex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he diagnosis of anorexia is made when the anorexic either loses fifteen percent (15%) of their weight or when the growing child fails to acquire eighty-five percent (85%) of the minimal weight for their particular age and height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ist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the United States approximately 7 out of every 100 females have some form of eating disord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search shows that anorexia is found in about one percent (1%) of young women in their late adolescence or early adulthood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Healthy Weight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 adults, an ideal BMI is between 18.5 and 24.9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 with a BMI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ov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24.9 is considered overweigh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 with a BMI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18.5 is considered underweight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2743200" cy="2009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4471920" cy="2971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1749240" cy="2619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1143000" y="228600"/>
            <a:ext cx="18511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youtube.com/watch?v=Vu3DL_yAZSM&amp;NR=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otagonist: Rosemary Warr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struggles with her weight and crave of delicious foods. She’s teased by kids and harassed by her family to lose weigh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attends high school and works at her mother’s hair salon: Heavenly Hair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struggles to work the weight off for herself, not for other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tagonist’s: Aunt Mary and The Bluebir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e’s Rosemary’s aunt. She never deals with her own problems but always points out everyone else’s. She always harasses Rosemary to lose weight and blames her mothers problems on 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Bluebirds are the popular girls a school. They’re fit and have all the guys. They are the cruelest to people outside they’re group, especially Rosema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avorite Character: Kay-Kay Rees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was part of the bluebirds but left the group because she couldn’t be mean to anyon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’s pretty, athletic, she befriends Rosey and helps her lose her weight throughout the book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allows Rosey to open up and share her feelings with 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ast Favorite Character: The Bluebir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cause they are nothing but mean to peop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ising A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introduces Rosmary and her family, Mother: Ro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unt: Ma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andma: Geor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d all of them trying to get Rosey to lose weight by buying her a treadmil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posi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is balancing school, her moms cancer, her aunts nagging, and her job at her mother’s sal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r mother cares too much about other people and doesn’t take care of herself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max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becomes interested in a boy, Kyle Cox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yle shows that he’s interested in her and they become boyfriend and girlfrien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triggers her to want to lose weigh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2:50:00Z</dcterms:created>
  <dc:creator>John Maack</dc:creator>
  <dc:description/>
  <dc:language>en-US</dc:language>
  <cp:lastModifiedBy>John Maack</cp:lastModifiedBy>
  <dcterms:modified xsi:type="dcterms:W3CDTF">2010-03-03T05:22:08Z</dcterms:modified>
  <cp:revision>2</cp:revision>
  <dc:subject/>
  <dc:title>Artichokes Heart      By Suzanne Suppl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