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758E-D0BC-4B89-A885-8FE1A756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866-06EC-4A26-A2A9-6049EBF7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6F1-7709-4B55-9AF5-938314B8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12EB-EB87-4BAA-9634-0F228021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946A-6F35-4351-9BF6-B97568B8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ABD7-F191-47C8-BF4B-2856BB55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F5AF-2297-4EF3-9AE6-7747DC02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7043-C613-40CE-BE93-58D12864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2DDA-21D9-418B-8525-EDDC4716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0CB2-BFE4-4081-BFA2-F0FB0A28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C342-F3CF-442F-ACCC-E5FA90DC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CDE-F5FF-477E-966C-A71AA513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3DCB-7DCC-4C29-BB7F-C8409B04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5ABA-CAF3-4B11-82FB-29A900FC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C081-C32A-4C57-83B6-8C3103D5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B237-F21A-4D3E-BB4C-FC35BA16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25BE-ACD4-4D7F-A5AE-CCDFBAA2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2AF2-CE96-4157-B468-D0F81623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578-D988-401F-9925-F398B031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45ED-3056-4BB5-9E22-83E2D63F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F600-2514-42A8-8778-AECB6D10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A89-3FAD-4324-9A51-57E449C1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0523-01C6-4B95-92C5-D6771B29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4DE5-3A63-48CF-9C13-D7301A7F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4C1E-010C-4E3C-AB54-BE89024AA9A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7BAF-E6A7-498B-A949-0A0A7FB25C8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www.myfivestarwedding.com/images/Five_stars.gif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oemhunter.com/poem/obesity-in-america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youtube.com/watch?v=bSj9d1P72sc&amp;feature=fvw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rtichokes Heart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By Suzanne Supple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-1447920" y="48006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By Dominique Maack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9880" y="2286000"/>
            <a:ext cx="2787840" cy="42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alling Action/ Resolu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osey loses a lot of weight with her friend Kay-Kay by her sid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opens up with her mom and grows a better relationship with her and her aunt Mar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etting and Them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story is in a small town, in Tennessee. A majority of the story takes place in Heavenly Hair. There is gossip from “The Quilters”, clients that are sometimes unwanted, and family issues that takes plac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at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give this book an 8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story was fun to read but the ending wasn’t finished off wel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felt like the story was really built up with no ending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s would be a good book for a girl to read because it involved the stresses of a girl and how she got through her problem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0400" y="304920"/>
            <a:ext cx="35053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Social Issue: Weight Problems</a:t>
            </a:r>
            <a:br>
              <a:rPr sz="28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(Obesity and Anorexia)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Obesity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o?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Obesity in children in a rising epidemic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at?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Using supplements instead of natural healthy diets and exercise. Crushing our healthcare syste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ere?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US has the highest obesity rat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5181480" y="380880"/>
            <a:ext cx="22100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ntinu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7386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When?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In society today and the latest growing year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Why?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Parents don’t promote healthy eating habits, school lunch could be much much healthier, and manufacturing companies advertising junk foo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How?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Make parents aware, change school lunches, grow more will power to not give into manufacture’s, and allow more exercise in schools and outside school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rguments against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hould schools only serve healthy food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ids wouldn’t purchase as much if only offered healthy food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chools sometimes get funded from the companies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at provide junk foo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rguments For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t would lower obesity rates among children and teach them better habits for when they’re old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reates a better ability to concentrate among children due to the vitamins and nutrients in the foo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romotes healthy food eating outside schoo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tatistic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 in 5 children in the US are diagnosed with obesit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Quarter of children in the population don’t exercis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lmost two-thirds (about 66%) of U.S. adults age 20 or older are overweight. About 62% of women and around 71% of men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oem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066320"/>
            <a:ext cx="7386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oday we shall, at your request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look at the bulge below your chest.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he scourge of gross obesity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enslaves the country of the fre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Is it just portions, giant plates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or lunches shouted by kind mates, 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erhaps the coffee with thick cream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hat bulges boldly near the seam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he experts say the cause is FAT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you try it but soon smell a rat.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wo thirds of Yanks are now obese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ith jelly-bellies and trick knee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hey do their shopping in the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Mall</a:t>
            </a:r>
            <a:br>
              <a:rPr sz="2000"/>
            </a:br>
            <a:r>
              <a:rPr b="0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where shirts are marked as Big and Tall.</a:t>
            </a:r>
            <a:br>
              <a:rPr sz="2000"/>
            </a:br>
            <a:r>
              <a:rPr b="0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And where they have a House of Pies</a:t>
            </a:r>
            <a:br>
              <a:rPr sz="2000"/>
            </a:br>
            <a:r>
              <a:rPr b="0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where staff will tell them soothing lies……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cont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Youtube Video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http://www.youtube.com/watch?v=bSj9d1P72sc&amp;feature=fvw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uthor: Suzanne Supple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grew up in Tennesse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lives near Baltimore, Marylan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rried and has three daught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2743200" y="4724280"/>
            <a:ext cx="19810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orexia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o?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Anorexia is primarily a disorder of females. Only rarely is it found in males. Usually diagnosed when the young person is between the ages of 15 and 20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at?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Also crushing our healthcare system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ere?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The U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When?: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 society toda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5105520" y="3733920"/>
            <a:ext cx="23763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ntinu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600200"/>
            <a:ext cx="7432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Why?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The person with a family member who has had an eating disorder is at higher risk for developing anorexia. Also, mood disorders are seen more frequently in families where someone has anorexi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How?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The diagnosis of anorexia is made when the anorexic either loses fifteen percent (15%) of their weight or when the growing child fails to acquire eighty-five percent (85%) of the minimal weight for their particular age and height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tatistic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 the United States approximately 7 out of every 100 females have some form of eating disord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search shows that anorexia is found in about one percent (1%) of young women in their late adolescence or early adulthood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Healthy Weight </a:t>
            </a:r>
            <a:r>
              <a:rPr b="0" lang="en-US" sz="4000" spc="-1" strike="noStrike">
                <a:solidFill>
                  <a:srgbClr val="f7d47d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r adults, an ideal BMI is between 18.5 and 24.9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person with a BMI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over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24.9 is considered overweight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person with a BMI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under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18.5 is considered underweight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2743200" cy="2009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4471920" cy="2971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5562720" y="3733920"/>
            <a:ext cx="1749240" cy="2619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1143000" y="228600"/>
            <a:ext cx="18511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YouTube Vide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ttp://www.youtube.com/watch?v=Vu3DL_yAZSM&amp;NR=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rotagonist: Rosemary Warre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struggles with her weight and crave of delicious foods. She’s teased by kids and harassed by her family to lose weight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attends high school and works at her mother’s hair salon: Heavenly Hair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struggles to work the weight off for herself, not for other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ntagonist’s: Aunt Mary and The Bluebird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he’s Rosemary’s aunt. She never deals with her own problems but always points out everyone else’s. She always harasses Rosemary to lose weight and blames her mothers problems on h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Bluebirds are the popular girls a school. They’re fit and have all the guys. They are the cruelest to people outside they’re group, especially Rosemary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Favorite Character: Kay-Kay Rees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was part of the bluebirds but left the group because she couldn’t be mean to anyone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’s pretty, athletic, she befriends Rosey and helps her lose her weight throughout the book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allows Rosey to open up and share her feelings with h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east Favorite Character: The Bluebird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ecause they are nothing but mean to peopl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ising Ac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t introduces Rosmary and her family, Mother: Ro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unt: Mar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randma: Georgi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d all of them trying to get Rosey to lose weight by buying her a treadmil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xposi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osey is balancing school, her moms cancer, her aunts nagging, and her job at her mother’s salo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r mother cares too much about other people and doesn’t take care of herself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max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osey becomes interested in a boy, Kyle Cox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yle shows that he’s interested in her and they become boyfriend and girlfrien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s triggers her to want to lose weigh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2:50:00Z</dcterms:created>
  <dc:creator>John Maack</dc:creator>
  <dc:description/>
  <dc:language>en-US</dc:language>
  <cp:lastModifiedBy>John Maack</cp:lastModifiedBy>
  <dcterms:modified xsi:type="dcterms:W3CDTF">2010-03-03T05:22:08Z</dcterms:modified>
  <cp:revision>2</cp:revision>
  <dc:subject/>
  <dc:title>Artichokes Heart      By Suzanne Suppl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