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79D-E42B-4E26-95F4-B58DEBEA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7FF-0B1E-41DF-9166-12E082A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055-1D86-4B3E-B7E7-7A9D177C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840-F093-40CA-A2E4-5016B0CD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B97C-A9A0-40BD-A76D-4EEC4877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0AE-D86B-4EDE-9F30-67B7FBB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DCE-D9D0-429F-8E30-349ABA6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C896-5D7D-4206-AB60-387BA33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2C6F-6247-44C1-A8B7-7B5A1C2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D18-75CD-4407-97E8-76A49E5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5C1-E8EE-442D-AEB1-E5004B4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410-0A59-40E0-A0C6-8F950B5F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9F2C-C4B2-4EA4-9059-94DE23B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475-BE06-459A-BC45-E6AA0D6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651-680F-4595-852D-6F51E6E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ADEE-54D5-4E37-B79E-28D9F3C1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77AF-1137-4F08-AE81-CC4A0CB0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D5D-946A-4BD1-9A8F-741503CA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150-DE92-4D37-B11E-C45B368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548-4BFA-43D5-8083-56075583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60B-3ACB-4E07-B2DC-B20FF51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852-A40F-4222-A709-1086170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D1A-B481-4467-B21F-CD17B70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71D-A05C-4589-A1F3-B7B3FAB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87B-9842-4597-B5CA-2F8B46E929F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239-9086-4BF2-8BA4-1F07A88FDE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myfivestarwedding.com/images/Five_stars.gif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emhunter.com/poem/obesity-in-america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bSj9d1P72sc&amp;feature=fvw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tichokes Heart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y Suzanne Supple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1447920" y="48006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By Dominique Maac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278784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lling Action/ Resolu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loses a lot of weight with her friend Kay-Kay by her si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opens up with her mom and grows a better relationship with her and her aunt Ma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etting and The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is in a small town, in Tennessee. A majority of the story takes place in Heavenly Hair. There is gossip from “The Quilters”, clients that are sometimes unwanted, and family issues that takes pla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give this book an 8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was fun to read but the ending wasn’t finished off we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elt like the story was really built up with no ending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would be a good book for a girl to read because it involved the stresses of a girl and how she got through her problem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04920"/>
            <a:ext cx="3505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ocial Issue: Weight Problems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(Obesity and Anorexia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Obesit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besity in children in a rising epidem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ing supplements instead of natural healthy diets and exercise. Crushing our healthcar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 has the highest obesity ra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380880"/>
            <a:ext cx="2210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en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In society today and the latest growing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arents don’t promote healthy eating habits, school lunch could be much much healthier, and manufacturing companies advertising junk f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Make parents aware, change school lunches, grow more will power to not give into manufacture’s, and allow more exercise in schools and outside schoo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against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hould schools only serve healthy foo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ids wouldn’t purchase as much if only offered healthy foo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ols sometimes get funded from the companie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provide junk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Fo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ould lower obesity rates among children and teach them better habits for when they’re ol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es a better ability to concentrate among children due to the vitamins and nutrients in th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motes healthy food eating outside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 in 5 children in the US are diagnosed with obes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arter of children in the population don’t exerc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most two-thirds (about 66%) of U.S. adults age 20 or older are overweight. About 62% of women and around 71% of m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we shall, at your reques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ok at the bulge below your ches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scourge of gross obesity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nslaves the country of the fre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 it just portions, giant plates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r lunches shouted by kind mates,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erhaps the coffee with thick cream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at bulges boldly near the seam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experts say the cause is FA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you try it but soon smell a ra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wo thirds of Yanks are now obese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th jelly-bellies and trick kne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y do their shopping in the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Mall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hirts are marked as Big and Tall.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And where they have a House of Pies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taff will tell them soothing lies……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youtube.com/watch?v=bSj9d1P72sc&amp;feature=fv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hor: Suzanne Supple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grew up in Tennes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lives near Baltimore, Mary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ried and has three daugh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9810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orex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orexia is primarily a disorder of females. Only rarely is it found in males. Usually diagnosed when the young person is between the ages of 15 and 2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lso crushing our healthcare system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n?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society to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237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600200"/>
            <a:ext cx="743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person with a family member who has had an eating disorder is at higher risk for developing anorexia. Also, mood disorders are seen more frequently in families where someone has anorex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diagnosis of anorexia is made when the anorexic either loses fifteen percent (15%) of their weight or when the growing child fails to acquire eighty-five percent (85%) of the minimal weight for their particular age and heigh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the United States approximately 7 out of every 100 females have some form of eating disor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shows that anorexia is found in about one percent (1%) of young women in their late adolescence or early adulthoo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Healthy Weight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 adults, an ideal BMI is between 18.5 and 24.9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24.9 is considered over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18.5 is considered underw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2743200" cy="2009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447192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143000" y="228600"/>
            <a:ext cx="1851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Vu3DL_yAZSM&amp;NR=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tagonist: Rosemary Warr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with her weight and crave of delicious foods. She’s teased by kids and harassed by her family to lose 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ttends high school and works at her mother’s hair salon: Heavenly Hai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to work the weight off for herself, not for oth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tagonist’s: Aunt Mary and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e’s Rosemary’s aunt. She never deals with her own problems but always points out everyone else’s. She always harasses Rosemary to lose weight and blames her mothers problems on 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luebirds are the popular girls a school. They’re fit and have all the guys. They are the cruelest to people outside they’re group, especially Rosema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vorite Character: Kay-Kay Rees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was part of the bluebirds but left the group because she couldn’t be mean to anyon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’s pretty, athletic, she befriends Rosey and helps her lose her weight throughout the boo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llows Rosey to open up and share her feelings with 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ast Favorite Character: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cause they are nothing but mean to peop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sing A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ntroduces Rosmary and her family, Mother: R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nt: M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ndma: Geor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d all of them trying to get Rosey to lose weight by buying her a treadmi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is balancing school, her moms cancer, her aunts nagging, and her job at her mother’s sal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r mother cares too much about other people and doesn’t take care of herself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max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becomes interested in a boy, Kyle Co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yle shows that he’s interested in her and they become boyfriend and girlfrie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triggers her to want to lose weigh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2:50:00Z</dcterms:created>
  <dc:creator>John Maack</dc:creator>
  <dc:description/>
  <dc:language>en-US</dc:language>
  <cp:lastModifiedBy>John Maack</cp:lastModifiedBy>
  <dcterms:modified xsi:type="dcterms:W3CDTF">2010-03-03T05:22:08Z</dcterms:modified>
  <cp:revision>2</cp:revision>
  <dc:subject/>
  <dc:title>Artichokes Heart      By Suzanne Suppl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