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171-5C6C-448F-B0E9-65EBBCE4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B93-57BD-453D-AB3A-B2FACDC5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C6F-B64F-44B5-A5D9-45CC3792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EC8-A367-4AE0-85C6-D3CB78ED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64F4-2544-48C7-B1EB-A48D3429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386C-ABB5-4193-B102-6D320B0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072-D276-47CD-82F2-179DA7DB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0EEA-57E8-4CE2-BF1F-41169FE2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3AC-B56B-41CA-A0E1-E71BE30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A73A-C46E-4A98-98D0-D19F96E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83FE-051C-4D6B-A091-865AAFDC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08E-EFE5-4812-B43E-B81AB876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0BB1-6169-4A25-A500-864AF3D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FFA0-5F5F-4DD6-AEA1-47B4CCB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BBE8-787F-481D-992F-FA8DBB6A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CD7-63C7-4C05-BF6F-BB98DE0A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E5CD-EEE7-4D20-9F8E-D6D3F526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E4A-4E69-47E9-9FB3-20BAA1DE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E0B-A6D4-46DA-9506-E61BFFA2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ABE-306E-43B2-AAAB-8A5D1914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367-4945-410F-8332-3602964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3BE-AA91-4B08-935B-1E9FE4F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EF1-404B-482A-A43F-5F481A2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955-CEA7-4723-8190-D84AE52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248E-6BE6-4D9B-BE1E-1F9D9FB69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92D7-D285-4647-82AE-31A12EAB7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mparative Adjectives and Adverb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63200" y="39621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djectives use –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ones use m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Doubl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sometimes us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omparati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Donalds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Burger 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Avenue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nos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Solitude La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139360" y="4724280"/>
            <a:ext cx="2704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gambler ne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re or better lu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Snapshots Daily Comics"/>
          <p:cNvPicPr/>
          <p:nvPr/>
        </p:nvPicPr>
        <p:blipFill>
          <a:blip r:embed="rId1"/>
          <a:stretch/>
        </p:blipFill>
        <p:spPr>
          <a:xfrm>
            <a:off x="5257800" y="1143000"/>
            <a:ext cx="2476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Is Beyond Compar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omparatives note differences between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uperlatives make differences among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h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more thing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loud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indicate extrem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was th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an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acher that you ever h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98680" y="5105520"/>
            <a:ext cx="16178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bo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yond hel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Superl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e syllabl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girls, her skin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dark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or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yllable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“mos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ll the students in this class, he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most depend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270400" y="4724280"/>
            <a:ext cx="2457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little gu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nk he is superbo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8" descr="Snapshots Daily Comics"/>
          <p:cNvPicPr/>
          <p:nvPr/>
        </p:nvPicPr>
        <p:blipFill>
          <a:blip r:embed="rId1"/>
          <a:stretch/>
        </p:blipFill>
        <p:spPr>
          <a:xfrm>
            <a:off x="4952880" y="1143000"/>
            <a:ext cx="2857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en Can We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erlative is used only for more than two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red and blue, red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tter, hott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funnier, funn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icture of the two you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three papers, this one is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 better, the better, the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302120" y="4800600"/>
            <a:ext cx="2107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“Box-O-Air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best for diet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ever combine most with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e Charles did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st, most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thing that he could for 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likes Adri because she ha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icest, most nic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mile and dispos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00680" y="4724280"/>
            <a:ext cx="1402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Bob’s 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nices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Snapshots Daily Comics"/>
          <p:cNvPicPr/>
          <p:nvPr/>
        </p:nvPicPr>
        <p:blipFill>
          <a:blip r:embed="rId1"/>
          <a:stretch/>
        </p:blipFill>
        <p:spPr>
          <a:xfrm>
            <a:off x="51814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4040" y="5029200"/>
            <a:ext cx="332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husband any differ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is the ___ person I kn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funny, b. funnier, c. funni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ampions won the ___ ga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any, b. most, c. m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orange is ___ a lem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weet, b. swee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more swe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Snapshots Daily Comics"/>
          <p:cNvPicPr/>
          <p:nvPr/>
        </p:nvPicPr>
        <p:blipFill>
          <a:blip r:embed="rId1"/>
          <a:stretch/>
        </p:blipFill>
        <p:spPr>
          <a:xfrm>
            <a:off x="1295280" y="1219320"/>
            <a:ext cx="247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ost anxious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c. best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b. the fewest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earliest, b. the earlier, c. the more ear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nswers to “Most” and –es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most anxio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the few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the earl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the earlier, c. the more 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longer than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b. as hard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b. more…more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. as much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ere are the comparative answer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longer 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as 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more…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a. as much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027320" y="5562720"/>
            <a:ext cx="104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How Do Adjectives Func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dd specific information to nou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ys with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slo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rs want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fas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Adjectives tell u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what kin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of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kind of test is it going to 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it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 or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Snapshots Daily Comics"/>
          <p:cNvPicPr/>
          <p:nvPr/>
        </p:nvPicPr>
        <p:blipFill>
          <a:blip r:embed="rId1"/>
          <a:stretch/>
        </p:blipFill>
        <p:spPr>
          <a:xfrm>
            <a:off x="4745160" y="1066680"/>
            <a:ext cx="341784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183280" y="4997520"/>
            <a:ext cx="25275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girl’s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 more common on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ow Do Adverbs Fun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114800" cy="4647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verbs tell us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en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how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at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deg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hey modify verbs and adjecti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il drov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colle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io wen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apid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st the police c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a i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t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han se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oor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g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6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016280" y="4724280"/>
            <a:ext cx="232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much does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ttle guy k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 All Adverbs End with -l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professor __ ups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mester ends 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re __ in the afterno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am played __ enough to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 is the last day to enro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rofess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s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mester end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afterno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play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el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ough to w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ast day to enro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ow About Comparative Adjec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 the comparative, short, one syllable adjectives and adverbs add –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ese is tough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ngli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ia studied hard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I d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briella look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t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young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wor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day than yesterd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92160" y="4724280"/>
            <a:ext cx="241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e good loo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than wi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nd adverbs of more than one syllable become comparative by adding the word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accident wa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expens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yours 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car drive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smooth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comfort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writing on the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9720" y="5105520"/>
            <a:ext cx="25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re always mo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143000"/>
            <a:ext cx="247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Words Ending with -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atives ending in –y become –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 is happ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ver bef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chelle seem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older broth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ink pen is mess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joke i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that 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193360" y="4689360"/>
            <a:ext cx="2335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 dogs always f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ndier plac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Snapshots Daily Comics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Comparatives Use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or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n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1148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SL writers us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tead of the proper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ompar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SOL class in high school was ea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lege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 football players are most often clum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occer play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one knew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, th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our class ended next mon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2040" y="4724280"/>
            <a:ext cx="243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it possible to sc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wer than chan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5Z</dcterms:created>
  <dc:creator>DSC</dc:creator>
  <dc:description/>
  <dc:language>en-US</dc:language>
  <cp:lastModifiedBy>justin.pitcher</cp:lastModifiedBy>
  <dcterms:modified xsi:type="dcterms:W3CDTF">2009-10-12T16:03:12Z</dcterms:modified>
  <cp:revision>27</cp:revision>
  <dc:subject/>
  <dc:title>Comparative Adjectives and Adverbs</dc:title>
</cp:coreProperties>
</file>