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4B6-2173-463C-8D94-F8FFF61F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AB9-B39F-4C25-9026-626BE740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330-1B49-43BE-90AE-576F98E1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351-CFD2-46E3-9CEF-FD54D6AC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5E19-59E3-45A6-A66A-4216BBA0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9209-1369-42A9-9AA4-9930FF2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94FE-011C-42BE-919E-CE8D0023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4021-3B9F-438E-A8DF-12C1A3B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A9E2-BAFB-44BA-B2BF-DFE392C0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BFCA-E59C-43D0-840A-51E35AE6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022-A97A-4A75-ADB3-11BB998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9F5-C0BF-4BEE-A51B-1D6A9DA3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E75F-ACF5-4897-BE11-A8B115A1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DB07-8477-47A0-9513-F5FCD83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74C2-F6CF-4013-875F-105E2874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7255-9793-441E-9457-329831F5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31A3-1DC9-4597-9FBD-8B86FC53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88C-69BE-41C2-93F1-078B9CA2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FA9-AB84-4527-883D-97985BD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B72-21D2-4D6F-A68A-202C46A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A09-255E-4422-AF56-143AAEF6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306-3BFD-4A84-B44C-EAE03D81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88E-B06E-46D2-B593-5CE216E3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629-EC9C-4D8B-B97C-1CB3D4C7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7298-5AEB-4E83-AA3C-C148145D3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9CE8-90CA-4F48-ADEC-7F48A40DB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omparative Adjectives and Adverb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63200" y="39621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adjectives use –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ones use mo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Doubl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sometimes us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uble comparati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Donalds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Burger 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Avenue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nos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Solitude La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139360" y="4724280"/>
            <a:ext cx="27043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gambler ne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re or better luc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8" descr="Snapshots Daily Comics"/>
          <p:cNvPicPr/>
          <p:nvPr/>
        </p:nvPicPr>
        <p:blipFill>
          <a:blip r:embed="rId1"/>
          <a:stretch/>
        </p:blipFill>
        <p:spPr>
          <a:xfrm>
            <a:off x="5257800" y="1143000"/>
            <a:ext cx="24764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Is Beyond Compar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Comparatives note differences between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wo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Superlatives make differences among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h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more thing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loud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indicate extrem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was th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ean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acher that you ever h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98680" y="5105520"/>
            <a:ext cx="16178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bo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yond help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Superl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e syllabl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girls, her skin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dark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o or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yllable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“most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all the students in this class, he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most depend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270400" y="4724280"/>
            <a:ext cx="2457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little gu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nk he is superbo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8" descr="Snapshots Daily Comics"/>
          <p:cNvPicPr/>
          <p:nvPr/>
        </p:nvPicPr>
        <p:blipFill>
          <a:blip r:embed="rId1"/>
          <a:stretch/>
        </p:blipFill>
        <p:spPr>
          <a:xfrm>
            <a:off x="4952880" y="1143000"/>
            <a:ext cx="2857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en Can We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erlative is used only for more than two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red and blue, red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tter, hott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funnier, funn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picture of the two you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three papers, this one is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 better, the better, the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302120" y="4800600"/>
            <a:ext cx="2107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“Box-O-Air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best for diet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ever combine most with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e Charles did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st, most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thing that he could for 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likes Adri because she ha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icest, most nic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mile and disposi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00680" y="4724280"/>
            <a:ext cx="1402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Bob’s 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nices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Snapshots Daily Comics"/>
          <p:cNvPicPr/>
          <p:nvPr/>
        </p:nvPicPr>
        <p:blipFill>
          <a:blip r:embed="rId1"/>
          <a:stretch/>
        </p:blipFill>
        <p:spPr>
          <a:xfrm>
            <a:off x="51814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34040" y="5029200"/>
            <a:ext cx="3323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husband any differen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se is the ___ person I kn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funny, b. funnier, c. funni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ampions won the ___ ga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any, b. most, c. m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orange is ___ a lem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weet, b. swee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more swe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9" descr="Snapshots Daily Comics"/>
          <p:cNvPicPr/>
          <p:nvPr/>
        </p:nvPicPr>
        <p:blipFill>
          <a:blip r:embed="rId1"/>
          <a:stretch/>
        </p:blipFill>
        <p:spPr>
          <a:xfrm>
            <a:off x="1295280" y="1219320"/>
            <a:ext cx="2476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ost anxious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c. best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b. the fewest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earliest, b. the earlier, c. the more ear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nswers to “Most” and –es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most anxio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the few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the earl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the earlier, c. the more ea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longer than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b. as hard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b. more…more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. as much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ere are the comparative answer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longer 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as 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more…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a. as much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027320" y="5562720"/>
            <a:ext cx="104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How Do Adjectives Functio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dd specific information to noun 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ys with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slo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ars want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fas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Adjectives tell u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what kind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of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kind of test is it going to b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it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 or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6" descr="Snapshots Daily Comics"/>
          <p:cNvPicPr/>
          <p:nvPr/>
        </p:nvPicPr>
        <p:blipFill>
          <a:blip r:embed="rId1"/>
          <a:stretch/>
        </p:blipFill>
        <p:spPr>
          <a:xfrm>
            <a:off x="4745160" y="1066680"/>
            <a:ext cx="341784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183280" y="4997520"/>
            <a:ext cx="25275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girl’s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 more common on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ow Do Adverbs Fun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114800" cy="4647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verbs tell us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en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how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o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at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deg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hey modify verbs and adjecti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lil drov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ick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colle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io went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apid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st the police c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a i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t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han se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oor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out gla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6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23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016280" y="4724280"/>
            <a:ext cx="232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much does t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ittle guy know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Do All Adverbs End with -l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professor __ ups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mester ends 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re __ in the afterno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am played __ enough to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 is the last day to enro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ere are the answer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profess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ps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mester end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afterno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play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el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ough to w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last day to enro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ow About Comparative Adjec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 the comparative, short, one syllable adjectives and adverbs add –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inese is tough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nglis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ia studied hard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I d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briella look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t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young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st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wor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day than yesterd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92160" y="4724280"/>
            <a:ext cx="241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e good loo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than wi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nd adverbs of more than one syllable become comparative by adding the word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accident wa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expensiv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yours w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car drive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smooth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r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comfort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writing on the comp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9720" y="5105520"/>
            <a:ext cx="25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re always mo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143000"/>
            <a:ext cx="2476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Words Ending with -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atives ending in –y become –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 is happ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ver bef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chelle seem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older broth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ink pen is mess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joke i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that 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193360" y="4689360"/>
            <a:ext cx="2335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 dogs always fi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indier plac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Snapshots Daily Comics"/>
          <p:cNvPicPr/>
          <p:nvPr/>
        </p:nvPicPr>
        <p:blipFill>
          <a:blip r:embed="rId1"/>
          <a:stretch/>
        </p:blipFill>
        <p:spPr>
          <a:xfrm>
            <a:off x="5029200" y="129528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Comparatives Use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t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or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n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9720" y="1142640"/>
            <a:ext cx="41148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SL writers us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tead of the proper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comparativ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ESOL class in high school was ea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lege ES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 football players are most often clum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occer play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one knew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, th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our class ended next mon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2040" y="4724280"/>
            <a:ext cx="243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it possible to sc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wer than chanc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5Z</dcterms:created>
  <dc:creator>DSC</dc:creator>
  <dc:description/>
  <dc:language>en-US</dc:language>
  <cp:lastModifiedBy>justin.pitcher</cp:lastModifiedBy>
  <dcterms:modified xsi:type="dcterms:W3CDTF">2009-10-12T16:03:12Z</dcterms:modified>
  <cp:revision>27</cp:revision>
  <dc:subject/>
  <dc:title>Comparative Adjectives and Adverbs</dc:title>
</cp:coreProperties>
</file>