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9DF-6AB9-45BB-8603-8DCE3A40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83C-3ABB-45FD-8E57-E455F4C1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CEC-BE10-4D08-82A4-5EC2CF8D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1F5-08CB-4B1A-A4FE-685E718D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841E-92E7-4FA3-9675-457F5636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936D-81BC-4079-8374-1B4B3E5A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C4F5-28FC-4CC8-BA27-F1EFDFC9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66DF-9720-41AC-93DF-8379B529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064A-E7F6-454D-A61E-526853C6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5593-AAB9-4EF2-A795-EA7813F0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9606-6E10-4601-BAE8-41AE4A23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C9A-045B-456D-B1D2-CB3FE651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659F-6A56-4768-AF17-9F082648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E375-9857-4380-BB07-CBF7677D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C80E-65C1-48C5-81AA-D75D7B96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8586-F0D2-4F15-9BC4-2DE62197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D11A-5CF2-4C3C-81A8-9A8C2D40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51D-8962-4CDB-B012-D23AA931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864-4F87-4646-BF49-CA202515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4D8-6751-403D-B91C-5CFAF174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F74-8CC1-4FE1-9F44-A9897A61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67A-A32E-4FC8-BB16-02D0AA77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4F6-3088-422C-A90B-A6439873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559-9919-41F9-BB20-9E52C0A1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AED2-5EFC-475F-BAC6-5013784E3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070F-4A28-41EE-A6FC-03AFBC807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omparative Adjectives and Adverb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63200" y="39621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adjectives use –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g ones use mo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Doubl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ople sometimes use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n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uble comparati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Donalds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Burger 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Avenue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nosi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Solitude La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139360" y="4724280"/>
            <a:ext cx="27043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gambler ne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ore or better luc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8" descr="Snapshots Daily Comics"/>
          <p:cNvPicPr/>
          <p:nvPr/>
        </p:nvPicPr>
        <p:blipFill>
          <a:blip r:embed="rId1"/>
          <a:stretch/>
        </p:blipFill>
        <p:spPr>
          <a:xfrm>
            <a:off x="5257800" y="1143000"/>
            <a:ext cx="24764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Is Beyond Compar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Comparatives note differences between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two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Superlatives make differences among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h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more thing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loud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indicate extrem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was th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ean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acher that you ever h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98680" y="5105520"/>
            <a:ext cx="16178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bo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yond help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Superl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ne syllabl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girls, her skin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dark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wo or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yllables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“most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all the students in this class, he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most depend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270400" y="4724280"/>
            <a:ext cx="24577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little gu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nk he is superbo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8" descr="Snapshots Daily Comics"/>
          <p:cNvPicPr/>
          <p:nvPr/>
        </p:nvPicPr>
        <p:blipFill>
          <a:blip r:embed="rId1"/>
          <a:stretch/>
        </p:blipFill>
        <p:spPr>
          <a:xfrm>
            <a:off x="4952880" y="1143000"/>
            <a:ext cx="2857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en Can We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he superlative is used only for more than two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red and blue, red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hotter, hott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funnier, funn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picture of the two you ha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three papers, this one is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 better, the better, the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302120" y="4800600"/>
            <a:ext cx="21070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“Box-O-Air”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best for diet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ever combine most with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e Charles did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st, most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thing that he could for 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likes Adri because she ha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nicest, most nic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mile and disposi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00680" y="4724280"/>
            <a:ext cx="1402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Bob’s j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nices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8" descr="Snapshots Daily Comics"/>
          <p:cNvPicPr/>
          <p:nvPr/>
        </p:nvPicPr>
        <p:blipFill>
          <a:blip r:embed="rId1"/>
          <a:stretch/>
        </p:blipFill>
        <p:spPr>
          <a:xfrm>
            <a:off x="51814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34040" y="5029200"/>
            <a:ext cx="33231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husband any differen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se is the ___ person I kn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funny, b. funnier, c. funni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hampions won the ___ ga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any, b. most, c. m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orange is ___ a lem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weet, b. swee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more swe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9" descr="Snapshots Daily Comics"/>
          <p:cNvPicPr/>
          <p:nvPr/>
        </p:nvPicPr>
        <p:blipFill>
          <a:blip r:embed="rId1"/>
          <a:stretch/>
        </p:blipFill>
        <p:spPr>
          <a:xfrm>
            <a:off x="1295280" y="1219320"/>
            <a:ext cx="2476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ost anxious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c. best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b. the fewest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earliest, b. the earlier, c. the more ear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nswers to “Most” and –es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most anxio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the few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the earl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the earlier, c. the more ea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longer than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b. as hard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b. more…more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a. as much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ere are the comparative answer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longer 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as 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more…mo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a. as much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027320" y="5562720"/>
            <a:ext cx="10465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How Do Adjectives Functio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dd specific information to noun for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uys with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slow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ars want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fas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Adjectives tell u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what kind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of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kind of test is it going to b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it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 or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6" descr="Snapshots Daily Comics"/>
          <p:cNvPicPr/>
          <p:nvPr/>
        </p:nvPicPr>
        <p:blipFill>
          <a:blip r:embed="rId1"/>
          <a:stretch/>
        </p:blipFill>
        <p:spPr>
          <a:xfrm>
            <a:off x="4745160" y="1066680"/>
            <a:ext cx="341784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5183280" y="4997520"/>
            <a:ext cx="25275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girl’s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 more common on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ow Do Adverbs Func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114800" cy="4647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verbs tell us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en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how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o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at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deg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hey modify verbs and adjectiv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lil drov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quick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colle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cio went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rapid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st the police c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a i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t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han see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oor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out gla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6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238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016280" y="4724280"/>
            <a:ext cx="232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much does t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ittle guy know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Do All Adverbs End with -l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professor __ ups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mester ends 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ere __ in the afterno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am played __ enough to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 is the last day to enro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ere are the answer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profess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ps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mester end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o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afterno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am play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wel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ough to w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last day to enro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ow About Comparative Adjec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 the comparative, short, one syllable adjectives and adverbs add –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inese is tough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nglis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ria studied hard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I di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briella look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t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young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st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feel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wors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day than yesterd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92160" y="4724280"/>
            <a:ext cx="241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e good loo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tter than winn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nd adverbs of more than one syllable become comparative by adding the word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 accident wa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expensiv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yours w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car drive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smooth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r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comfort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writing on the compu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9720" y="5105520"/>
            <a:ext cx="252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re always mo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143000"/>
            <a:ext cx="2476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Words Ending with -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mparatives ending in –y become –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 is happ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ver bef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chelle seem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older broth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ink pen is mess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joke i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that 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193360" y="4689360"/>
            <a:ext cx="23356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 dogs always fi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indier plac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8" descr="Snapshots Daily Comics"/>
          <p:cNvPicPr/>
          <p:nvPr/>
        </p:nvPicPr>
        <p:blipFill>
          <a:blip r:embed="rId1"/>
          <a:stretch/>
        </p:blipFill>
        <p:spPr>
          <a:xfrm>
            <a:off x="5029200" y="129528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Comparatives Use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t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or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n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19720" y="1142640"/>
            <a:ext cx="41148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ESL writers us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stead of the proper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 comparativ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ESOL class in high school was ea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lege ES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 football players are most often clum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occer play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 one knew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, the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our class ended next mon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2040" y="4724280"/>
            <a:ext cx="243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it possible to sc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wer than chanc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5Z</dcterms:created>
  <dc:creator>DSC</dc:creator>
  <dc:description/>
  <dc:language>en-US</dc:language>
  <cp:lastModifiedBy>justin.pitcher</cp:lastModifiedBy>
  <dcterms:modified xsi:type="dcterms:W3CDTF">2009-10-12T16:03:12Z</dcterms:modified>
  <cp:revision>27</cp:revision>
  <dc:subject/>
  <dc:title>Comparative Adjectives and Adverbs</dc:title>
</cp:coreProperties>
</file>