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BFD8-A72B-45E7-897C-3439C8D61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17EF-488A-41EA-A91A-589952C2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5CE3-E014-48D9-9D92-0B7471C34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230D-91E9-414D-B6F0-39F7A0DA7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8D31-954E-4C28-8295-C93C25205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75FB-9B11-4522-A6D4-87881EC5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32B4-830C-4029-9063-ECEE2C44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F848-F0E2-444A-9781-98F5A2B7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467B-ADB3-4B43-BB86-7B84B420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EEC8-BD30-4A13-AD7B-63482D89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C88F-68C4-43AB-B463-9F091E03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3014-E07C-48A7-92E6-1D55B65F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95D2-7876-4161-996A-D93BC465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4562-9E1A-46C9-ACC5-4B0DEEEE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7DF1-C3B3-4874-84B7-EF1AC767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44DA-3196-4946-9DEA-CD100376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8480-319E-4384-9103-5644F22B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60E2-F61A-44AB-B5D8-36C8D638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1463-FAFD-4FB4-B8D1-4DB45F3B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FD14-C4AC-4C8F-AFFA-5457E47C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0CDA-8B4D-44AA-BF81-834B7019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E747-5ABB-420D-8F77-18F9E28D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71CA-342C-4497-B003-D2BD38C0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3954-5B95-4F32-9401-33E6C64A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BD73-60C8-4ACA-9343-998F07EDD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E123-5316-48EB-AF2E-0EDAB92B1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Comparative Adjectives and Adverb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63200" y="396216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rt adjectives use –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ng ones use mo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Can We Use Double Comparative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3772080" cy="441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ople sometimes use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in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ouble comparativ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cDonalds is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more bett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an Burger K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ress Avenue is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more nosi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an Solitude La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248160" y="2590920"/>
            <a:ext cx="9903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139360" y="4724280"/>
            <a:ext cx="270432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oes the gambler ne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more or better luck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8" descr="Snapshots Daily Comics"/>
          <p:cNvPicPr/>
          <p:nvPr/>
        </p:nvPicPr>
        <p:blipFill>
          <a:blip r:embed="rId1"/>
          <a:stretch/>
        </p:blipFill>
        <p:spPr>
          <a:xfrm>
            <a:off x="5257800" y="1143000"/>
            <a:ext cx="247644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0556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What Is Beyond Comparativ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971440"/>
            <a:ext cx="761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19720" y="1143000"/>
            <a:ext cx="4114800" cy="5410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Comparatives note differences between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Comic Sans MS"/>
              </a:rPr>
              <a:t>two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 thing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Superlatives make differences among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three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 or more thing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r bell i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lou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ur bell i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loud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r bell i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e loud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al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uperlatives indicate extrem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o was the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ean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eacher that you ever ha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498680" y="5105520"/>
            <a:ext cx="161784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s the boy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beyond help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8" descr="Snapshots Daily Comics"/>
          <p:cNvPicPr/>
          <p:nvPr/>
        </p:nvPicPr>
        <p:blipFill>
          <a:blip r:embed="rId1"/>
          <a:stretch/>
        </p:blipFill>
        <p:spPr>
          <a:xfrm>
            <a:off x="1143000" y="1295280"/>
            <a:ext cx="247644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What About Longer Superlative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3772080" cy="441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uperlative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one syllable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add –e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f the girls, her skin i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e dark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uperlative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two or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more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syllables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add “most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f all the students in this class, he i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e most dependabl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248160" y="2590920"/>
            <a:ext cx="9903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5270400" y="4724280"/>
            <a:ext cx="245772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oes the little gu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ink he is superboy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8" descr="Snapshots Daily Comics"/>
          <p:cNvPicPr/>
          <p:nvPr/>
        </p:nvPicPr>
        <p:blipFill>
          <a:blip r:embed="rId1"/>
          <a:stretch/>
        </p:blipFill>
        <p:spPr>
          <a:xfrm>
            <a:off x="4952880" y="1143000"/>
            <a:ext cx="285768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0556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When Can We Use the Superlativ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676520" y="2971440"/>
            <a:ext cx="761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419720" y="1143000"/>
            <a:ext cx="411480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The superlative is used only for more than two thing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tween red and blue, red is the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hotter, hott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colo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is the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funnier, funni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picture of the two you hav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f the three papers, this one is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a better, the better, the b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302120" y="4800600"/>
            <a:ext cx="210708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s “Box-O-Air”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e best for diet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8" descr="Snapshots Daily Comics"/>
          <p:cNvPicPr/>
          <p:nvPr/>
        </p:nvPicPr>
        <p:blipFill>
          <a:blip r:embed="rId1"/>
          <a:stretch/>
        </p:blipFill>
        <p:spPr>
          <a:xfrm>
            <a:off x="1143000" y="1295280"/>
            <a:ext cx="247644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Can We Use “Most” and -est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3772080" cy="441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Never combine most with –e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ince Charles did the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best, most b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thing that he could for h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veryone likes Adri because she has the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nicest, most nic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smile and disposi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248160" y="2590920"/>
            <a:ext cx="9903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00680" y="4724280"/>
            <a:ext cx="140292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s Bob’s jo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e nicest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Picture 8" descr="Snapshots Daily Comics"/>
          <p:cNvPicPr/>
          <p:nvPr/>
        </p:nvPicPr>
        <p:blipFill>
          <a:blip r:embed="rId1"/>
          <a:stretch/>
        </p:blipFill>
        <p:spPr>
          <a:xfrm>
            <a:off x="5181480" y="1219320"/>
            <a:ext cx="285768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0556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Can You Use the Superlativ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676520" y="2971440"/>
            <a:ext cx="761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734040" y="5029200"/>
            <a:ext cx="33231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s the husband any different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19720" y="1143000"/>
            <a:ext cx="411480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Jose is the ___ person I know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funny, b. funnier, c. funnie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champions won the ___ gam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many, b. most, c. mo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 orange is ___ a lem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sweet, b. sweet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. more swee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Picture 9" descr="Snapshots Daily Comics"/>
          <p:cNvPicPr/>
          <p:nvPr/>
        </p:nvPicPr>
        <p:blipFill>
          <a:blip r:embed="rId1"/>
          <a:stretch/>
        </p:blipFill>
        <p:spPr>
          <a:xfrm>
            <a:off x="1295280" y="1219320"/>
            <a:ext cx="2476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Can We Use “Most” and -est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41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’s your __ moment of al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most anxious, b. more anxiou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ich is your __ season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good, b. better, c. best, d. bes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t’s avoid __ sentence error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a bad, b. some worse, c. the wor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o has __ errors on the essa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the more, b. the fewest, c. the l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. When is __ that you can come tomorrow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the earliest, b. the earlier, c. the more earl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nswers to “Most” and –est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41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’s your __ moment of al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. most anxiou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b. more anxiou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ich is your __ season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good, b. better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. b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d. bes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t’s avoid __ sentence error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a bad, b. some worse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. the wor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o has __ errors on the essa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the more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b. the few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c. the l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. When is __ that you can come tomorrow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. the earlie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b. the earlier, c. the more earl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Can you use comparative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41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1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ich river is __ in the worl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the longer, b. the more long, c. the long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2.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va has studied here __ Eduardo h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longer than, b. more long that, c. long 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3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 is __ to learn English as it is to learn mat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so hard, b. as hard, c. too har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4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__ you study, the __ you will lear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hard…better, b. more…more, c. less…few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5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No one knows __ about the lottery as Joe does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a. as much, b. more, c. the most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Here are the comparative answer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41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1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ich river is __ in the worl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the longer, b. the more long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. the long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2.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va has studied here __ Eduardo h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. longer th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b. more long that, c. long 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3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 is __ to learn English as it is to learn mat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so hard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b. as har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c. too har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4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__ you study, the __ you will lear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hard…better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b. more…mor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c. less…few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__5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No one knows __ about the lottery as Joe does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300" spc="-1" strike="noStrike">
                <a:solidFill>
                  <a:srgbClr val="ff0000"/>
                </a:solidFill>
                <a:latin typeface="Comic Sans MS"/>
              </a:rPr>
              <a:t>a. as much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, b. more, c. the most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4027320" y="5562720"/>
            <a:ext cx="104652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e En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8487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How Do Adjectives Function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3772080" cy="441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Adjectives add specific information to noun form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uys with </a:t>
            </a:r>
            <a:r>
              <a:rPr b="1" lang="en-US" sz="2400" spc="-1" strike="noStrike" u="sng">
                <a:solidFill>
                  <a:srgbClr val="660033"/>
                </a:solidFill>
                <a:uFillTx/>
                <a:latin typeface="Comic Sans MS"/>
              </a:rPr>
              <a:t>slow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ars want </a:t>
            </a:r>
            <a:r>
              <a:rPr b="1" lang="en-US" sz="2400" spc="-1" strike="noStrike" u="sng">
                <a:solidFill>
                  <a:srgbClr val="660033"/>
                </a:solidFill>
                <a:uFillTx/>
                <a:latin typeface="Comic Sans MS"/>
              </a:rPr>
              <a:t>fast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n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Adjectives tell us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Comic Sans MS"/>
              </a:rPr>
              <a:t>what kind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Comic Sans MS"/>
              </a:rPr>
              <a:t>of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kind of test is it going to b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s it a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ar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ne or an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as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n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248160" y="2590920"/>
            <a:ext cx="9903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6" descr="Snapshots Daily Comics"/>
          <p:cNvPicPr/>
          <p:nvPr/>
        </p:nvPicPr>
        <p:blipFill>
          <a:blip r:embed="rId1"/>
          <a:stretch/>
        </p:blipFill>
        <p:spPr>
          <a:xfrm>
            <a:off x="4745160" y="1066680"/>
            <a:ext cx="3417840" cy="37339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5183280" y="4997520"/>
            <a:ext cx="252756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s the girl’s ques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 more common on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How Do Adverbs Func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676520" y="2971440"/>
            <a:ext cx="761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419720" y="1218960"/>
            <a:ext cx="4114800" cy="4647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Adverbs tell us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when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,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how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 or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to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what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degree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They modify verbs and adjectiv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alil drove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quick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colleg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cio went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rapid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ast the police ca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a is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ve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ett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han sees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poor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thout glass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6" descr="Snapshots Daily Comics"/>
          <p:cNvPicPr/>
          <p:nvPr/>
        </p:nvPicPr>
        <p:blipFill>
          <a:blip r:embed="rId1"/>
          <a:stretch/>
        </p:blipFill>
        <p:spPr>
          <a:xfrm>
            <a:off x="762120" y="1295280"/>
            <a:ext cx="2857320" cy="32385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1016280" y="4724280"/>
            <a:ext cx="232488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How much does th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little guy know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8487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Do All Adverbs End with -ly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3772080" cy="441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professor __ upse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emester ends __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ere __ in the afterno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eam played __ enough to w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 is the last day to enrol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4533840" y="1066680"/>
            <a:ext cx="3772080" cy="441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Fill in the blanks with the words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r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ll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er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morr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8487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Here are the answer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3772080" cy="441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professo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ve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pse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emester end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so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wer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the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the afterno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eam playe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well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ough to w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Tomorro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last day to enrol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4533840" y="1066680"/>
            <a:ext cx="3772080" cy="441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Fill in the blanks with the words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r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ll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er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morr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0556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How About Comparative Adjective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676520" y="2971440"/>
            <a:ext cx="761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19720" y="1219320"/>
            <a:ext cx="411480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In the comparative, short, one syllable adjectives and adverbs add –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inese is tough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Englis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ria studied hard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I di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abriella look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bett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her young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er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ster do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 you feel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wors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day than yesterda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992160" y="4724280"/>
            <a:ext cx="241488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re good look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better than winning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8" descr="Snapshots Daily Comics"/>
          <p:cNvPicPr/>
          <p:nvPr/>
        </p:nvPicPr>
        <p:blipFill>
          <a:blip r:embed="rId1"/>
          <a:stretch/>
        </p:blipFill>
        <p:spPr>
          <a:xfrm>
            <a:off x="762120" y="1295280"/>
            <a:ext cx="28573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0556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What About Longer Comparative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676520" y="2971440"/>
            <a:ext cx="761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419720" y="1219320"/>
            <a:ext cx="411480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Adjectives and adverbs of more than one syllable become comparative by adding the word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more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y accident wa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ore expensiv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yours w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r car drives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ore smoothl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mine do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udents are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ore comfortabl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writing on the compu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729720" y="5105520"/>
            <a:ext cx="252144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s there always mor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8" descr="Snapshots Daily Comics"/>
          <p:cNvPicPr/>
          <p:nvPr/>
        </p:nvPicPr>
        <p:blipFill>
          <a:blip r:embed="rId1"/>
          <a:stretch/>
        </p:blipFill>
        <p:spPr>
          <a:xfrm>
            <a:off x="838080" y="1143000"/>
            <a:ext cx="247680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What About Words Ending with -y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3772080" cy="441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omparatives ending in –y become –i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01480" indent="-501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a is happ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i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ever befo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01480" indent="-501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chelle seems funn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i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her older brother do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01480" indent="-501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r ink pen is mess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i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mi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01480" indent="-501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joke is funn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i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an that o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248160" y="2590920"/>
            <a:ext cx="9903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5193360" y="4689360"/>
            <a:ext cx="233568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o dogs always fin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windier place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8" descr="Snapshots Daily Comics"/>
          <p:cNvPicPr/>
          <p:nvPr/>
        </p:nvPicPr>
        <p:blipFill>
          <a:blip r:embed="rId1"/>
          <a:stretch/>
        </p:blipFill>
        <p:spPr>
          <a:xfrm>
            <a:off x="5029200" y="1295280"/>
            <a:ext cx="28576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05560" cy="838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Do Comparatives Use </a:t>
            </a:r>
            <a:r>
              <a:rPr b="1" lang="en-US" sz="3600" spc="-1" strike="noStrike" u="sng">
                <a:solidFill>
                  <a:srgbClr val="703dff"/>
                </a:solidFill>
                <a:uFillTx/>
                <a:latin typeface="Comic Sans MS"/>
              </a:rPr>
              <a:t>That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or </a:t>
            </a:r>
            <a:r>
              <a:rPr b="1" lang="en-US" sz="3600" spc="-1" strike="noStrike" u="sng">
                <a:solidFill>
                  <a:srgbClr val="703dff"/>
                </a:solidFill>
                <a:uFillTx/>
                <a:latin typeface="Comic Sans MS"/>
              </a:rPr>
              <a:t>Than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676520" y="2971440"/>
            <a:ext cx="761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19720" y="1142640"/>
            <a:ext cx="4114800" cy="5257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me ESL writers use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a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nstead of the proper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n comparativ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ESOL class in high school was easier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a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college ES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S football players are most often clumsier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a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soccer play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 one knew (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hat, the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our class ended next mont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112040" y="4724280"/>
            <a:ext cx="243792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s it possible to sco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lower than chanc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8" descr="Snapshots Daily Comics"/>
          <p:cNvPicPr/>
          <p:nvPr/>
        </p:nvPicPr>
        <p:blipFill>
          <a:blip r:embed="rId1"/>
          <a:stretch/>
        </p:blipFill>
        <p:spPr>
          <a:xfrm>
            <a:off x="838080" y="1219320"/>
            <a:ext cx="285768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7:44:25Z</dcterms:created>
  <dc:creator>DSC</dc:creator>
  <dc:description/>
  <dc:language>en-US</dc:language>
  <cp:lastModifiedBy>justin.pitcher</cp:lastModifiedBy>
  <dcterms:modified xsi:type="dcterms:W3CDTF">2009-10-12T16:03:12Z</dcterms:modified>
  <cp:revision>27</cp:revision>
  <dc:subject/>
  <dc:title>Comparative Adjectives and Adverbs</dc:title>
</cp:coreProperties>
</file>