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CF5-89FF-45DF-ADC1-2EEA8DF8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142-8F84-4D92-B453-1EC97A0F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945-4C2B-49BF-B862-64B0E9D3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D6F-96F7-4A0A-969A-7ED1D8AB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8FB-7517-4667-9C7E-4A1685E0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53E-87F0-4042-A348-B16FA34F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DA7-E41B-4697-948E-B5A498F7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4DD-1A5B-49B0-B21E-9C2E97A0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61F-9683-4F2A-AE17-21A2E90A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315-2BFD-42B7-AE22-47EC8CA2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71D-1BD6-41DB-BD75-24BA724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834-66F5-4069-B839-EFE10521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E06A-71EE-43E1-AD74-6B5515574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j0239131"/>
          <p:cNvPicPr/>
          <p:nvPr/>
        </p:nvPicPr>
        <p:blipFill>
          <a:blip r:embed="rId1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0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Line 4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j0212919"/>
          <p:cNvPicPr/>
          <p:nvPr/>
        </p:nvPicPr>
        <p:blipFill>
          <a:blip r:embed="rId1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238025"/>
          <p:cNvPicPr/>
          <p:nvPr/>
        </p:nvPicPr>
        <p:blipFill>
          <a:blip r:embed="rId1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7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Line 48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9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0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1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2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3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4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5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6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57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9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3" descr="j0212919"/>
          <p:cNvPicPr/>
          <p:nvPr/>
        </p:nvPicPr>
        <p:blipFill>
          <a:blip r:embed="rId1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5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1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Line 12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4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9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0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2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7" descr="j0212919"/>
          <p:cNvPicPr/>
          <p:nvPr/>
        </p:nvPicPr>
        <p:blipFill>
          <a:blip r:embed="rId1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Line 13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22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4" descr="j0212919"/>
          <p:cNvPicPr/>
          <p:nvPr/>
        </p:nvPicPr>
        <p:blipFill>
          <a:blip r:embed="rId1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Line 14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6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1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3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5" descr="j0212919"/>
          <p:cNvPicPr/>
          <p:nvPr/>
        </p:nvPicPr>
        <p:blipFill>
          <a:blip r:embed="rId1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Line 5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4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j0212919"/>
          <p:cNvPicPr/>
          <p:nvPr/>
        </p:nvPicPr>
        <p:blipFill>
          <a:blip r:embed="rId1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justin.pitcher</cp:lastModifiedBy>
  <dcterms:modified xsi:type="dcterms:W3CDTF">2009-09-22T15:54:20Z</dcterms:modified>
  <cp:revision>4</cp:revision>
  <dc:subject/>
  <dc:title>Identifying the Elements of A Plot Diagram</dc:title>
</cp:coreProperties>
</file>