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668-4291-4DB7-BFF5-BCB1A862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83D-6801-4BD9-9B02-EB8D165D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AF3-6166-43EF-9178-FEF9CADA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8E8-8757-4D17-BC77-DEF4A733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5AE-4C78-436A-BF9C-5BB424A8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1CD-DEA6-4053-8F43-3B67AD66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DFD-586D-4CC0-9E31-92BCA97F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29D-E059-4D6A-A222-FD131D2E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4C0-BF11-4245-AEFB-900E2B51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718-1868-4ECA-83C4-B2510B6B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F8D-5509-46B2-9CA4-7C818BE4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534-4741-4FAF-8BDE-CF3E963F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FBF6-9124-4B90-B2D2-B9A492235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1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1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1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1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1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1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1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1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justin.pitcher</cp:lastModifiedBy>
  <dcterms:modified xsi:type="dcterms:W3CDTF">2009-09-22T15:54:20Z</dcterms:modified>
  <cp:revision>4</cp:revision>
  <dc:subject/>
  <dc:title>Identifying the Elements of A Plot Diagram</dc:title>
</cp:coreProperties>
</file>