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4B4-9806-4877-B277-D9745AD5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D0E8-B10C-48A5-BDE6-B95CC258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56D-2D88-4172-A48C-BCA0FB45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3228-C226-4177-BBEF-01DADDAE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4B38-3A09-487F-BF9B-6BBEA94C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9BB-6215-4C11-B64C-4E8FA6DF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89C-1C6E-4E15-A15C-CF40F7E3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958-9A98-43DA-BFE1-0882A2EB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150-D994-425D-A36C-58DD0190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958-DF0C-4B24-A3EE-2C41D528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112-D30E-40C0-941C-A99D61BE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B90-1F1E-4EC1-B2D7-E9CB104D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C79E-E7CB-4B2F-BD46-B9960740E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j0239131"/>
          <p:cNvPicPr/>
          <p:nvPr/>
        </p:nvPicPr>
        <p:blipFill>
          <a:blip r:embed="rId1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0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Line 4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4" descr="j0212919"/>
          <p:cNvPicPr/>
          <p:nvPr/>
        </p:nvPicPr>
        <p:blipFill>
          <a:blip r:embed="rId1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j0238025"/>
          <p:cNvPicPr/>
          <p:nvPr/>
        </p:nvPicPr>
        <p:blipFill>
          <a:blip r:embed="rId1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7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Line 48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49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50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51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52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3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4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55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6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57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9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3" descr="j0212919"/>
          <p:cNvPicPr/>
          <p:nvPr/>
        </p:nvPicPr>
        <p:blipFill>
          <a:blip r:embed="rId1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5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1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Line 12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3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4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5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6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7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8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9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0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22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7" descr="j0212919"/>
          <p:cNvPicPr/>
          <p:nvPr/>
        </p:nvPicPr>
        <p:blipFill>
          <a:blip r:embed="rId1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Line 13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22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4" descr="j0212919"/>
          <p:cNvPicPr/>
          <p:nvPr/>
        </p:nvPicPr>
        <p:blipFill>
          <a:blip r:embed="rId1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3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Line 14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6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7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1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3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5" descr="j0212919"/>
          <p:cNvPicPr/>
          <p:nvPr/>
        </p:nvPicPr>
        <p:blipFill>
          <a:blip r:embed="rId1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Line 5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4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6" descr="j0212919"/>
          <p:cNvPicPr/>
          <p:nvPr/>
        </p:nvPicPr>
        <p:blipFill>
          <a:blip r:embed="rId1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justin.pitcher</cp:lastModifiedBy>
  <dcterms:modified xsi:type="dcterms:W3CDTF">2009-09-22T15:54:20Z</dcterms:modified>
  <cp:revision>4</cp:revision>
  <dc:subject/>
  <dc:title>Identifying the Elements of A Plot Diagram</dc:title>
</cp:coreProperties>
</file>