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309-AC70-4D80-8DE0-C5553748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B78-5733-4BD3-B7DC-3F62F3C9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D2A-A502-4310-884D-B8407DE5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C62-7FE8-4E92-94FC-54D40427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888-6F63-42AA-93C5-AB047C51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A8E-1F89-4947-BB4B-C574762C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059-38A9-4EC5-8DC3-302E1260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DC6-8D8E-4D20-8179-A91AD42B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276-F6C0-4293-89B7-49FC7E92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7F0-E472-4BB7-B318-2BC0D7EB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852-47AE-41C4-9BA8-017AA01F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E69-69BA-4548-9FFE-EFA1B177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89DE-AA40-4768-A39C-469CE710F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j0239131"/>
          <p:cNvPicPr/>
          <p:nvPr/>
        </p:nvPicPr>
        <p:blipFill>
          <a:blip r:embed="rId1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0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Line 4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j0212919"/>
          <p:cNvPicPr/>
          <p:nvPr/>
        </p:nvPicPr>
        <p:blipFill>
          <a:blip r:embed="rId1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38025"/>
          <p:cNvPicPr/>
          <p:nvPr/>
        </p:nvPicPr>
        <p:blipFill>
          <a:blip r:embed="rId1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7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Line 48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9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0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1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2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3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4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5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6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57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9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3" descr="j0212919"/>
          <p:cNvPicPr/>
          <p:nvPr/>
        </p:nvPicPr>
        <p:blipFill>
          <a:blip r:embed="rId1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5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Line 12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9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0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2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7" descr="j0212919"/>
          <p:cNvPicPr/>
          <p:nvPr/>
        </p:nvPicPr>
        <p:blipFill>
          <a:blip r:embed="rId1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Line 13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22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j0212919"/>
          <p:cNvPicPr/>
          <p:nvPr/>
        </p:nvPicPr>
        <p:blipFill>
          <a:blip r:embed="rId1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Line 14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6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1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3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j0212919"/>
          <p:cNvPicPr/>
          <p:nvPr/>
        </p:nvPicPr>
        <p:blipFill>
          <a:blip r:embed="rId1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Line 5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4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j0212919"/>
          <p:cNvPicPr/>
          <p:nvPr/>
        </p:nvPicPr>
        <p:blipFill>
          <a:blip r:embed="rId1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justin.pitcher</cp:lastModifiedBy>
  <dcterms:modified xsi:type="dcterms:W3CDTF">2009-09-22T15:54:20Z</dcterms:modified>
  <cp:revision>4</cp:revision>
  <dc:subject/>
  <dc:title>Identifying the Elements of A Plot Diagram</dc:title>
</cp:coreProperties>
</file>