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26D-9C32-46E1-8879-7413A976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9A5-BFA4-4BB4-A80E-9C5F4F72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FFE-A8F4-400D-8B52-C9FADACF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44D-0694-4DE9-B146-1802B0D5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64A-DEFC-48C2-918D-C89817A3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380-2C37-4EA8-9394-AD522E17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004-2313-4D1B-AB4C-6BDB339B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A7F-CD08-4349-A73E-8E2B6297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F32-2AE0-4448-9F30-86FAC5ED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62C-0D74-4B6F-991B-32651738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704-EEE4-418C-BF49-07A1D2B7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2C5-FBEF-4EA4-8C30-800BF847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48D2-F5A5-43A9-AD00-0C4D84955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j0239131"/>
          <p:cNvPicPr/>
          <p:nvPr/>
        </p:nvPicPr>
        <p:blipFill>
          <a:blip r:embed="rId1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0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Line 4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4" descr="j0212919"/>
          <p:cNvPicPr/>
          <p:nvPr/>
        </p:nvPicPr>
        <p:blipFill>
          <a:blip r:embed="rId1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238025"/>
          <p:cNvPicPr/>
          <p:nvPr/>
        </p:nvPicPr>
        <p:blipFill>
          <a:blip r:embed="rId1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7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Line 48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9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0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51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2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3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4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55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6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57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9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3" descr="j0212919"/>
          <p:cNvPicPr/>
          <p:nvPr/>
        </p:nvPicPr>
        <p:blipFill>
          <a:blip r:embed="rId1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5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1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Line 12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4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5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6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7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8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9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0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22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7" descr="j0212919"/>
          <p:cNvPicPr/>
          <p:nvPr/>
        </p:nvPicPr>
        <p:blipFill>
          <a:blip r:embed="rId1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Line 13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22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4" descr="j0212919"/>
          <p:cNvPicPr/>
          <p:nvPr/>
        </p:nvPicPr>
        <p:blipFill>
          <a:blip r:embed="rId1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3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Line 14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6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7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1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3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5" descr="j0212919"/>
          <p:cNvPicPr/>
          <p:nvPr/>
        </p:nvPicPr>
        <p:blipFill>
          <a:blip r:embed="rId1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Line 5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4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6" descr="j0212919"/>
          <p:cNvPicPr/>
          <p:nvPr/>
        </p:nvPicPr>
        <p:blipFill>
          <a:blip r:embed="rId1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justin.pitcher</cp:lastModifiedBy>
  <dcterms:modified xsi:type="dcterms:W3CDTF">2009-09-22T15:54:20Z</dcterms:modified>
  <cp:revision>4</cp:revision>
  <dc:subject/>
  <dc:title>Identifying the Elements of A Plot Diagram</dc:title>
</cp:coreProperties>
</file>