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EB3-079C-4409-B830-3A320E50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7BE-4EB0-4090-9268-01A20FCE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994-F211-49A9-BEA4-FB73AFAF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919-5988-4E44-A9E2-3665D060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A7CC-5604-420C-B80A-16E95684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E3CC-91C4-4F26-971B-34823F20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07E7-330B-430B-A324-8C6BA32C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23A6-DB7A-45CE-B88C-FC1C6F95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913A-A2AD-455E-A984-0567E260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C0ED-2A48-4657-86ED-E74BB2E2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A293-5BB3-4B91-918C-914DA424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10E-D1AD-4AB7-BA86-A1283795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DED6-992A-4163-B1F0-62E7ED2B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BE6E-C61C-43BD-8723-F7C8BBE1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77C8-0978-400E-90E7-B42D54B3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06DD-BD7C-4262-93D1-9D7F94A1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89D6-86FC-420E-A584-24349AD2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E20-D13D-4E76-898B-65D88A99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073-963E-4563-A4E2-2E3CDFAB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F988-A268-47CB-8FC2-C7840B5A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D1DE-BC0C-45F4-BA12-22EFD495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8E8-0838-40FD-84B9-D993FDA3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7CB-2319-4FC6-9B2E-D1B403B4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AD5-BEBD-4963-A0CF-D7E0BCEE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11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3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9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5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0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7FC1-EAE2-40AB-86CB-28F04D031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3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5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6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8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8DC8-5239-4D87-8185-573F3D0B5EE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Jane C. Schaffe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High School Writing Proc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ce you develop a thesis statement it is time to use  a graphic organizer to expand your though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96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t your thesis in the middle bub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nch three other bubbles off of the center bubble.  It should look like th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4419720" y="5181480"/>
            <a:ext cx="0" cy="9144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3429000" y="41148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1295280" y="350532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429000" y="57913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5562720" y="3581280"/>
            <a:ext cx="198108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3200400" y="4267080"/>
            <a:ext cx="30492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5410080" y="4419360"/>
            <a:ext cx="30492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151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219320" y="1676520"/>
            <a:ext cx="7924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pic sentences are what that whole paragraph is going to be abo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anch three other bubbles off from the each topic sentence bub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3733920" y="3809880"/>
            <a:ext cx="198108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371600" y="37339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3809880" y="525780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6095880" y="373392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24"/>
          <p:cNvSpPr/>
          <p:nvPr/>
        </p:nvSpPr>
        <p:spPr>
          <a:xfrm>
            <a:off x="3352680" y="4343400"/>
            <a:ext cx="38124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5715000" y="4343400"/>
            <a:ext cx="3808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33"/>
          <p:cNvSpPr/>
          <p:nvPr/>
        </p:nvSpPr>
        <p:spPr>
          <a:xfrm>
            <a:off x="4724280" y="487692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pic sentences must relate to your the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347840" y="914400"/>
            <a:ext cx="779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ncrete details are very specific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y can be a quote if you are writing a literary analysis, or factual information if you are writing a book repor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733920" y="304812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1371600" y="29718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3809880" y="4495680"/>
            <a:ext cx="1981440" cy="106704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6095880" y="2971800"/>
            <a:ext cx="198144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0" y="34290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380880" y="22096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1981080" y="19051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6095880" y="18288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7772400" y="38862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7543800" y="19810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2514600" y="51055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5867280" y="51814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Oval 18"/>
          <p:cNvSpPr/>
          <p:nvPr/>
        </p:nvSpPr>
        <p:spPr>
          <a:xfrm>
            <a:off x="4191120" y="5943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3352680" y="3505320"/>
            <a:ext cx="381240" cy="759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5715000" y="3581280"/>
            <a:ext cx="3808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1371600" y="2971800"/>
            <a:ext cx="2286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1143000" y="36572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2590920" y="28191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6858000" y="2743200"/>
            <a:ext cx="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 flipV="1">
            <a:off x="7772400" y="2895120"/>
            <a:ext cx="30492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>
            <a:off x="7848720" y="3886200"/>
            <a:ext cx="7596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4724280" y="411480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4800600" y="5562720"/>
            <a:ext cx="0" cy="3808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Line 29"/>
          <p:cNvSpPr/>
          <p:nvPr/>
        </p:nvSpPr>
        <p:spPr>
          <a:xfrm flipV="1">
            <a:off x="3581280" y="5181480"/>
            <a:ext cx="22860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Line 30"/>
          <p:cNvSpPr/>
          <p:nvPr/>
        </p:nvSpPr>
        <p:spPr>
          <a:xfrm>
            <a:off x="5715000" y="533412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28440" y="-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rete details must relate to the topic sent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nce your bubble cluster is complete you can start creating body paragraph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04960" y="182880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ch grouping of one TS and three CDs is a body paragrap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1371600" y="32004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0" y="3657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380880" y="243828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1981080" y="21337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3352680" y="3733920"/>
            <a:ext cx="381240" cy="759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1371600" y="3200400"/>
            <a:ext cx="2286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Line 23"/>
          <p:cNvSpPr/>
          <p:nvPr/>
        </p:nvSpPr>
        <p:spPr>
          <a:xfrm flipV="1">
            <a:off x="1143000" y="38858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 flipV="1">
            <a:off x="2590920" y="30477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Rectangle 32"/>
          <p:cNvSpPr/>
          <p:nvPr/>
        </p:nvSpPr>
        <p:spPr>
          <a:xfrm>
            <a:off x="3429000" y="449568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next step is to add two commentaries to each concrete detail - NOT IN THE BUBBLE CLU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mentary is opinion relating to the concrete detail or fa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0040" y="121932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re is the pattern for a body paragraph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1371600" y="3200400"/>
            <a:ext cx="1981080" cy="106668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0" y="365760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3505320" y="30481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Oval 9"/>
          <p:cNvSpPr/>
          <p:nvPr/>
        </p:nvSpPr>
        <p:spPr>
          <a:xfrm>
            <a:off x="1981080" y="2133720"/>
            <a:ext cx="1143000" cy="9144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 flipV="1">
            <a:off x="1143000" y="3885840"/>
            <a:ext cx="2286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 flipV="1">
            <a:off x="2590920" y="3047760"/>
            <a:ext cx="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332320" y="2057400"/>
            <a:ext cx="3291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S - topic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D - concrete det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 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M -comment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S - concluding sent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0" y="594360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last item added to the pattern is the concluding sentence, which can lead the reader to the next paragrap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3124080" y="2514600"/>
            <a:ext cx="221004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2971800" y="2362320"/>
            <a:ext cx="2286000" cy="9144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Line 22"/>
          <p:cNvSpPr/>
          <p:nvPr/>
        </p:nvSpPr>
        <p:spPr>
          <a:xfrm flipV="1">
            <a:off x="3352680" y="3581280"/>
            <a:ext cx="152640" cy="76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4648320" y="3429000"/>
            <a:ext cx="68580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1066680" y="4343400"/>
            <a:ext cx="4267440" cy="4572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4648320" y="6019920"/>
            <a:ext cx="685800" cy="304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nce your body paragraphs are complete it is time to create an introductory paragrap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introductory paragraph is used to catch the reader’s atten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r thesis should be the last sentence in your introductory paragrap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are 4 types of introductory paragraphs 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ecdote ( a little stor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alogue (open convers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rtling information (sometimes statistics are use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mentary (open with an opin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re are other graphic organizers besides the bubble clust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ider diagram (like a bubble cluster except you use lines instead of bubbles)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ndom outline (you just start brainstorming ideas and organize them l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umns outline (great for comparing two thing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chnical Writing lis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5640" y="1523520"/>
            <a:ext cx="5257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terary 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uasive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iograph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ience Fair Pap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earch Pap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arison Contrast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type of paper in which factual information will be 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riting Tip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careful with the topic you cho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nk about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why you cho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top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t is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oo narrow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 will get frustrated finding information to write abo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t is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oo broa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r piece will sound scatte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nd information that will interest your rea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ssion State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mission of this lesson is to provide students with a writing tool.  This is a technical writing tool.  Its purpose is to develop a strong foundation for research driven writ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a sentence with 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a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opin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e-writin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getting your ideas and concrete details down on paper before you put your essay together in paragraph form.  Graphic organizers are used at this stag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rete Detai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specific details or facts.  In a literary analysis quotes may be us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mmentar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your opinion about something.  Depending on what you are writing it could also be more detail to the fac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luding Sentence: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ast sentence in your body paragrap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haping the essa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writing the following before you write your first draft: thesis;  topic sentence for each body paragrap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clusion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ast paragraph in your essay that is all commentary, does not repeat key words, and gives a finished feeling to the whole ess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eer Respon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 written responses and reactions to a partner’s pap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ne More Page of Terminolo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atio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part concrete detail (CD) to 2+ parts commentary (C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ord Counts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e minimum length per paragraph to earn a “C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 your essay keep in mind you are continually going from general to specific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2743200" y="3276720"/>
            <a:ext cx="41911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115160" y="2438280"/>
            <a:ext cx="14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s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4419720" y="32004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2743200" y="3276720"/>
            <a:ext cx="2057400" cy="2590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Line 15"/>
          <p:cNvSpPr/>
          <p:nvPr/>
        </p:nvSpPr>
        <p:spPr>
          <a:xfrm flipV="1">
            <a:off x="4800600" y="3276720"/>
            <a:ext cx="2133720" cy="259056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4343400" y="3886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343400" y="4572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M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hesis is a general sentence with a subject and an opin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stralia is the best country of all for a vac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457200" y="4114800"/>
            <a:ext cx="1371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057400" y="4114800"/>
            <a:ext cx="61722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057400" y="4267080"/>
            <a:ext cx="61722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is sentenc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ustrali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th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nd is the best country of all for a vacation is the opin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7620120" y="5334120"/>
            <a:ext cx="6858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457200" y="5791320"/>
            <a:ext cx="51814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457200" y="5943600"/>
            <a:ext cx="51814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7620120" y="5486400"/>
            <a:ext cx="6858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bbetts Middle School is a wonderful place to go to schoo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tting braces was one of the best things that could have happened to 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2362320"/>
            <a:ext cx="3657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343400" y="2362320"/>
            <a:ext cx="4800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57200" y="2819520"/>
            <a:ext cx="990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4343400" y="2514600"/>
            <a:ext cx="4800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457200" y="2971800"/>
            <a:ext cx="990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533520" y="4038480"/>
            <a:ext cx="21333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2971800" y="4038480"/>
            <a:ext cx="57913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895480" y="4191120"/>
            <a:ext cx="57913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457200" y="4572000"/>
            <a:ext cx="3429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457200" y="4724280"/>
            <a:ext cx="3429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actice Thesis Stat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48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rite the following sentences and underline the subject once and the opinion twic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609480" y="30481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shing is fun to do when I’m with my da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609480" y="36576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glish is my favorite cla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609480" y="4343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’s exciting to go to a new schoo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609480" y="51814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cos are my favorite foo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609480" y="57150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 like radio station Star 102.9 the mos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8:11:03Z</dcterms:created>
  <dc:creator>Farmington Municipal Schools</dc:creator>
  <dc:description/>
  <dc:language>en-US</dc:language>
  <cp:lastModifiedBy>Justin Pitcher</cp:lastModifiedBy>
  <cp:lastPrinted>1904-01-01T00:00:00Z</cp:lastPrinted>
  <dcterms:modified xsi:type="dcterms:W3CDTF">2009-11-02T13:35:22Z</dcterms:modified>
  <cp:revision>23</cp:revision>
  <dc:subject/>
  <dc:title>Jane C. Schaffer or The High School Writing Process</dc:title>
</cp:coreProperties>
</file>