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8C0-B08C-4981-A772-B9D3DADD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CA8-B0BC-4526-86E6-94589C27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B94-10ED-4176-A3D1-A79B15D4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300-137B-47A4-9820-976FF5C1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2492-3601-4338-B419-C5ABE8C5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2419-6ED6-414D-882D-86BE84E4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AB02-380D-4119-873B-0F4157AD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7B70-F736-4E5C-89A0-0A0DBE08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B0CF-0DD0-4160-8395-E7DDF255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1847-A33C-431D-A385-06943B86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FE98-D463-43A3-9C25-26FB8884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340-1B42-42D6-9CF1-F6272216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53D9-9222-4463-98ED-BBDFD4C1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EA53-A38B-4B00-B0D0-00C44119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FCDA-AA4F-4317-A2F1-669328CE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51F3-3587-4A9E-98BC-E31094B3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A210-397E-4032-89B6-ADF1864A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B2F9-7C61-43B9-81ED-D0D18958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F2D-4E65-4C5A-9C22-95041F72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EDFF-1C56-4739-864F-B8EA6DCB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7BF-B040-4293-A516-EA5A42C4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578-7169-47AC-86A7-19AD5B14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3241-1D20-4F33-8725-5DC466FF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AC8-D755-4A1D-A718-A13525E6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11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3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9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5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0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C591-65DD-4B8F-902A-EA4799930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3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5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6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7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8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0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4821-82DE-4CD4-94CA-9141F9D375E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Jane C. Schaffer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r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High School Writing Proc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ce you develop a thesis statement it is time to use  a graphic organizer to expand your though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961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t your thesis in the middle bub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anch three other bubbles off of the center bubble.  It should look like th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4419720" y="5181480"/>
            <a:ext cx="0" cy="9144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3429000" y="41148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1295280" y="350532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3429000" y="579132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5562720" y="3581280"/>
            <a:ext cx="1981080" cy="106704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3200400" y="4267080"/>
            <a:ext cx="30492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5410080" y="4419360"/>
            <a:ext cx="30492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151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219320" y="1676520"/>
            <a:ext cx="7924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pic sentences are what that whole paragraph is going to be abou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ranch three other bubbles off from the each topic sentence bub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3733920" y="3809880"/>
            <a:ext cx="1981080" cy="106704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371600" y="373392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3809880" y="525780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6095880" y="373392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24"/>
          <p:cNvSpPr/>
          <p:nvPr/>
        </p:nvSpPr>
        <p:spPr>
          <a:xfrm>
            <a:off x="3352680" y="4343400"/>
            <a:ext cx="38124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5715000" y="4343400"/>
            <a:ext cx="3808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33"/>
          <p:cNvSpPr/>
          <p:nvPr/>
        </p:nvSpPr>
        <p:spPr>
          <a:xfrm>
            <a:off x="4724280" y="4876920"/>
            <a:ext cx="0" cy="3808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pic sentences must relate to your the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347840" y="914400"/>
            <a:ext cx="779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ncrete details are very specific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y can be a quote if you are writing a literary analysis, or factual information if you are writing a book repor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3733920" y="304812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1371600" y="29718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3809880" y="4495680"/>
            <a:ext cx="1981440" cy="106704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6095880" y="297180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0" y="34290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380880" y="22096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1981080" y="19051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6095880" y="18288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Oval 14"/>
          <p:cNvSpPr/>
          <p:nvPr/>
        </p:nvSpPr>
        <p:spPr>
          <a:xfrm>
            <a:off x="7772400" y="38862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Oval 15"/>
          <p:cNvSpPr/>
          <p:nvPr/>
        </p:nvSpPr>
        <p:spPr>
          <a:xfrm>
            <a:off x="7543800" y="19810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Oval 16"/>
          <p:cNvSpPr/>
          <p:nvPr/>
        </p:nvSpPr>
        <p:spPr>
          <a:xfrm>
            <a:off x="2514600" y="51055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5867280" y="51814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Oval 18"/>
          <p:cNvSpPr/>
          <p:nvPr/>
        </p:nvSpPr>
        <p:spPr>
          <a:xfrm>
            <a:off x="4191120" y="59436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3352680" y="3505320"/>
            <a:ext cx="381240" cy="759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5715000" y="3581280"/>
            <a:ext cx="3808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1371600" y="2971800"/>
            <a:ext cx="22860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1143000" y="365724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2590920" y="2819160"/>
            <a:ext cx="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6858000" y="2743200"/>
            <a:ext cx="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Line 25"/>
          <p:cNvSpPr/>
          <p:nvPr/>
        </p:nvSpPr>
        <p:spPr>
          <a:xfrm flipV="1">
            <a:off x="7772400" y="2895120"/>
            <a:ext cx="30492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Line 26"/>
          <p:cNvSpPr/>
          <p:nvPr/>
        </p:nvSpPr>
        <p:spPr>
          <a:xfrm>
            <a:off x="7848720" y="3886200"/>
            <a:ext cx="7596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Line 27"/>
          <p:cNvSpPr/>
          <p:nvPr/>
        </p:nvSpPr>
        <p:spPr>
          <a:xfrm>
            <a:off x="4724280" y="4114800"/>
            <a:ext cx="0" cy="3808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Line 28"/>
          <p:cNvSpPr/>
          <p:nvPr/>
        </p:nvSpPr>
        <p:spPr>
          <a:xfrm>
            <a:off x="4800600" y="5562720"/>
            <a:ext cx="0" cy="3808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Line 29"/>
          <p:cNvSpPr/>
          <p:nvPr/>
        </p:nvSpPr>
        <p:spPr>
          <a:xfrm flipV="1">
            <a:off x="3581280" y="5181480"/>
            <a:ext cx="228600" cy="763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Line 30"/>
          <p:cNvSpPr/>
          <p:nvPr/>
        </p:nvSpPr>
        <p:spPr>
          <a:xfrm>
            <a:off x="5715000" y="533412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28440" y="-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rete details must relate to the topic sent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nce your bubble cluster is complete you can start creating body paragraph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504960" y="182880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ch grouping of one TS and three CDs is a body paragrap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1371600" y="32004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0" y="36576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380880" y="24382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1981080" y="21337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Line 20"/>
          <p:cNvSpPr/>
          <p:nvPr/>
        </p:nvSpPr>
        <p:spPr>
          <a:xfrm>
            <a:off x="3352680" y="3733920"/>
            <a:ext cx="381240" cy="759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1371600" y="3200400"/>
            <a:ext cx="22860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Line 23"/>
          <p:cNvSpPr/>
          <p:nvPr/>
        </p:nvSpPr>
        <p:spPr>
          <a:xfrm flipV="1">
            <a:off x="1143000" y="388584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Line 24"/>
          <p:cNvSpPr/>
          <p:nvPr/>
        </p:nvSpPr>
        <p:spPr>
          <a:xfrm flipV="1">
            <a:off x="2590920" y="3047760"/>
            <a:ext cx="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Rectangle 32"/>
          <p:cNvSpPr/>
          <p:nvPr/>
        </p:nvSpPr>
        <p:spPr>
          <a:xfrm>
            <a:off x="3429000" y="449568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next step is to add two commentaries to each concrete detail - NOT IN THE BUBBLE CLUS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mmentary is opinion relating to the concrete detail or fa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00040" y="121932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re is the pattern for a body paragraph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1371600" y="32004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0" y="36576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3505320" y="30481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Oval 9"/>
          <p:cNvSpPr/>
          <p:nvPr/>
        </p:nvSpPr>
        <p:spPr>
          <a:xfrm>
            <a:off x="1981080" y="21337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 flipV="1">
            <a:off x="1143000" y="388584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Line 13"/>
          <p:cNvSpPr/>
          <p:nvPr/>
        </p:nvSpPr>
        <p:spPr>
          <a:xfrm flipV="1">
            <a:off x="2590920" y="3047760"/>
            <a:ext cx="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332320" y="2057400"/>
            <a:ext cx="3291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S - 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D - concrete deta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D - concrete deta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D - concrete deta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S - concluding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0" y="594360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 last item added to the pattern is the concluding sentence, which can lead the reader to the next paragrap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3124080" y="2514600"/>
            <a:ext cx="2210040" cy="763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2971800" y="2362320"/>
            <a:ext cx="2286000" cy="9144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Line 22"/>
          <p:cNvSpPr/>
          <p:nvPr/>
        </p:nvSpPr>
        <p:spPr>
          <a:xfrm flipV="1">
            <a:off x="3352680" y="3581280"/>
            <a:ext cx="152640" cy="763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4648320" y="3429000"/>
            <a:ext cx="68580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Line 24"/>
          <p:cNvSpPr/>
          <p:nvPr/>
        </p:nvSpPr>
        <p:spPr>
          <a:xfrm>
            <a:off x="1066680" y="4343400"/>
            <a:ext cx="4267440" cy="4572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4648320" y="6019920"/>
            <a:ext cx="685800" cy="3045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nce your body paragraphs are complete it is time to create an introductory paragrap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 introductory paragraph is used to catch the reader’s atten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r thesis should be the last sentence in your introductory paragrap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are 4 types of introductory paragraphs 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ecdote ( a little stor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alogue (open conversa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rtling information (sometimes statistics are use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mentary (open with an opin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re are other graphic organizers besides the bubble clust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ider diagram (like a bubble cluster except you use lines instead of bubbles)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ndom outline (you just start brainstorming ideas and organize them l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lumns outline (great for comparing two thing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chnical Writing lis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5640" y="1523520"/>
            <a:ext cx="5257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terary Analy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uasive Ess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iograph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ience Fair Pap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earch Pap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arison Contrast Ess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y type of paper in which factual information will be u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riting Tip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careful with the topic you choo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nk about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why you cho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t top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it is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oo narrow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you will get frustrated finding information to write abo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it is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oo broa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your piece will sound scatte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nd information that will interest your rea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ssion Statemen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mission of this lesson is to provide students with a writing tool.  This is a technical writing tool.  Its purpose is to develop a strong foundation for research driven writ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a sentence with 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ubjec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a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opin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re-writing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getting your ideas and concrete details down on paper before you put your essay together in paragraph form.  Graphic organizers are used at this stag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specific details or facts.  In a literary analysis quotes may be us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mmentar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your opinion about something.  Depending on what you are writing it could also be more detail to the fac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erminolog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cluding Sentence: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ast sentence in your body paragraph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haping the essa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writing the following before you write your first draft: thesis;  topic sentence for each body paragrap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clusion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ast paragraph in your essay that is all commentary, does not repeat key words, and gives a finished feeling to the whole ess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eer Respons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written responses and reactions to a partner’s pap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ne More Page of Terminolog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atio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e part concrete detail (CD) to 2+ parts commentary (C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Word Counts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e minimum length per paragraph to earn a “C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 your essay keep in mind you are continually going from general to specific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2743200" y="3276720"/>
            <a:ext cx="41911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4115160" y="2438280"/>
            <a:ext cx="145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4419720" y="32004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2743200" y="3276720"/>
            <a:ext cx="2057400" cy="25905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Line 15"/>
          <p:cNvSpPr/>
          <p:nvPr/>
        </p:nvSpPr>
        <p:spPr>
          <a:xfrm flipV="1">
            <a:off x="4800600" y="3276720"/>
            <a:ext cx="2133720" cy="25905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4343400" y="3886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4343400" y="4572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M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sis Stat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hesis is a general sentence with a subject and an opin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ustralia is the best country of all for a vac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457200" y="4114800"/>
            <a:ext cx="1371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057400" y="4114800"/>
            <a:ext cx="61722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057400" y="4267080"/>
            <a:ext cx="61722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is sentenc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Australi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s th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nd is the best country of all for a vacation is the opin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7620120" y="5334120"/>
            <a:ext cx="6858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457200" y="5791320"/>
            <a:ext cx="51814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457200" y="5943600"/>
            <a:ext cx="51814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7620120" y="5486400"/>
            <a:ext cx="6858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hesis Stat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bbetts Middle School is a wonderful place to go to schoo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tting braces was one of the best things that could have happened to 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457200" y="2362320"/>
            <a:ext cx="3657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343400" y="2362320"/>
            <a:ext cx="4800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457200" y="2819520"/>
            <a:ext cx="990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4343400" y="2514600"/>
            <a:ext cx="4800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457200" y="2971800"/>
            <a:ext cx="990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533520" y="4038480"/>
            <a:ext cx="21333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2971800" y="4038480"/>
            <a:ext cx="57913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2895480" y="4191120"/>
            <a:ext cx="57913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457200" y="4572000"/>
            <a:ext cx="3429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457200" y="4724280"/>
            <a:ext cx="3429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actice Thesis Stat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48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rite the following sentences and underline the subject once and the opinion twic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609480" y="304812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shing is fun to do when I’m with my da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609480" y="36576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glish is my favorite cla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609480" y="43434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’s exciting to go to a new schoo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609480" y="51814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cos are my favorite foo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609480" y="57150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 like radio station Star 102.9 the mos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8:11:03Z</dcterms:created>
  <dc:creator>Farmington Municipal Schools</dc:creator>
  <dc:description/>
  <dc:language>en-US</dc:language>
  <cp:lastModifiedBy>Justin Pitcher</cp:lastModifiedBy>
  <cp:lastPrinted>1904-01-01T00:00:00Z</cp:lastPrinted>
  <dcterms:modified xsi:type="dcterms:W3CDTF">2009-11-02T13:35:22Z</dcterms:modified>
  <cp:revision>23</cp:revision>
  <dc:subject/>
  <dc:title>Jane C. Schaffer or The High School Writing Process</dc:title>
</cp:coreProperties>
</file>