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F37-B024-480E-8DA2-0E482F3B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A5E-2641-47B4-B28D-B7623623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02E-8079-4686-8792-604DC5A5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108-B416-47B1-921B-E82F8523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583D-3393-48D5-A3FB-0D446200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15A5-5318-4EF9-BCAC-18584D1C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88D4-D835-45CC-87EF-887DCA7C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EEEC-1406-4771-85BE-4C78DCF4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07D0-B4E3-415D-AD90-6DC2CF19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3FCE-F295-4803-94B7-9C30B626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D3F7-F12A-40E7-91CB-7199FF34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4EA-D11A-4F0D-ABFF-D061FA62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66E3-31DA-4DF4-B074-9385B58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F878-123A-4CBC-B715-C889490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4F00-F6E6-4CD3-BD08-F5839F57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356B-7926-40B2-9CE1-61D23EBD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0F67-5D48-4E1A-96FA-FAAA4558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E4C-FE98-4D47-A399-D3BB57D6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5FB-8F2B-4CBD-B7DF-BF2F337F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D82-EE01-463A-B067-D4597C2E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F61-994E-4D5C-B477-5A018CE5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A49-974F-4464-A867-1F2ED62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A16-B7A8-4704-A7E2-C2C1213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5AA-C254-467C-BDC1-7548674F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D63C-721B-4BDF-9504-C2D0B004F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228D-65AA-4682-8DE5-26683D8CBA6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ane C. Schaff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High School Writing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you develop a thesis statement it is time to use  a graphic organizer to expand your thou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96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your thesis in the middle bub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 three other bubbles off of the center bubble.  It should look like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419720" y="5181480"/>
            <a:ext cx="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3429000" y="4114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1295280" y="35053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429000" y="57913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562720" y="35812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200400" y="426708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410080" y="4419360"/>
            <a:ext cx="30492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151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9320" y="1676520"/>
            <a:ext cx="7924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pic sentences are what that whole paragraph is going to be ab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anch three other bubbles off from the each topic sentence bub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33920" y="38098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371600" y="37339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3809880" y="5257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6095880" y="37339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3352680" y="4343400"/>
            <a:ext cx="3812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15000" y="434340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4724280" y="48769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pic sentences must relate to your the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347840" y="914400"/>
            <a:ext cx="779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ncrete details are very specifi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y can be a quote if you are writing a literary analysis, or factual information if you are writing a book repor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733920" y="30481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1371600" y="2971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3809880" y="4495680"/>
            <a:ext cx="198144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095880" y="2971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0" y="34290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80880" y="22096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1981080" y="1905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095880" y="18288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7772400" y="38862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7543800" y="19810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2514600" y="51055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5867280" y="51814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4191120" y="5943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3352680" y="35053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5715000" y="358128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1371600" y="29718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1143000" y="36572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2590920" y="28191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858000" y="2743200"/>
            <a:ext cx="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7772400" y="289512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7848720" y="3886200"/>
            <a:ext cx="7596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4724280" y="411480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4800600" y="55627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3581280" y="5181480"/>
            <a:ext cx="22860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5715000" y="533412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440" y="-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rete details must relate to the topic sen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ubble cluster is complete you can start creating body paragraph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04960" y="182880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grouping of one TS and three CDs is a bod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380880" y="24382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3352680" y="37339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1371600" y="32004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3429000" y="449568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next step is to add two commentaries to each concrete detail - NOT IN THE BUBBLE CLU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mentary is opinion relating to the concrete detail or f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0040" y="121932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s the pattern for a body paragraph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505320" y="3048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332320" y="2057400"/>
            <a:ext cx="329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S - 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S - concluding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0" y="594360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last item added to the pattern is the concluding sentence, which can lead the reader to the next paragrap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124080" y="2514600"/>
            <a:ext cx="22100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2971800" y="2362320"/>
            <a:ext cx="228600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22"/>
          <p:cNvSpPr/>
          <p:nvPr/>
        </p:nvSpPr>
        <p:spPr>
          <a:xfrm flipV="1">
            <a:off x="3352680" y="3581280"/>
            <a:ext cx="1526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4648320" y="3429000"/>
            <a:ext cx="6858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1066680" y="4343400"/>
            <a:ext cx="4267440" cy="4572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4648320" y="6019920"/>
            <a:ext cx="685800" cy="304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ody paragraphs are complete it is time to create an introductory paragrap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introductory paragraph is used to catch the reader’s at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r thesis should be the last sentence in your introductor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4 types of introductory paragraphs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ecdote ( a little sto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alogue (open convers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rtling information (sometimes statistics are us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entary (open with an opin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re are other graphic organizers besides the bubble clus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ider diagram (like a bubble cluster except you use lines instead of bubbles)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ndom outline (you just start brainstorming ideas and organize them 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umns outline (great for comparing two thing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chnical Writing li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terary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uasiv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ograph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ience Fair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earch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ison Contrast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type of paper in which factual information will be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riting Tip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areful with the topic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nk about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hy you cho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top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narr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will get frustrated finding information to write ab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broa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r piece will sound scatte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nd information that will interest your re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ission of this lesson is to provide students with a writing tool.  This is a technical writing tool.  Its purpose is to develop a strong foundation for research driven wri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a sentence with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opin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e-writ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getting your ideas and concrete details down on paper before you put your essay together in paragraph form.  Graphic organizers are used at this sta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specific details or facts.  In a literary analysis quotes may be us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menta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your opinion about something.  Depending on what you are writing it could also be more detail to the fac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ding Sentence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sentence in your body parag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aping the ess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ing the following before you write your first draft: thesis;  topic sentence for each body paragrap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paragraph in your essay that is all commentary, does not repeat key words, and gives a finished feeling to the whol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er Respon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ten responses and reactions to a partner’s pa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ne More Page of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atio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part concrete detail (CD) to 2+ parts commentary (C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d Counts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e minimum length per paragraph to earn a “C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 your essay keep in mind you are continually going from general to specific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2743200" y="3276720"/>
            <a:ext cx="41911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115160" y="2438280"/>
            <a:ext cx="14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419720" y="3200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743200" y="3276720"/>
            <a:ext cx="205740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 flipV="1">
            <a:off x="4800600" y="3276720"/>
            <a:ext cx="213372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343400" y="3886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343400" y="4572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sis is a general sentence with a subject and an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stralia is the best country of all for a vac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57200" y="4114800"/>
            <a:ext cx="1371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057400" y="411480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057400" y="426708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sentenc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is the best country of all for a vacation is the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7620120" y="533412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457200" y="579132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457200" y="594360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7620120" y="548640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bbetts Middle School is a wonderful place to go to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ting braces was one of the best things that could have happened to 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2362320"/>
            <a:ext cx="3657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343400" y="236232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57200" y="281952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343400" y="251460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457200" y="297180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533520" y="4038480"/>
            <a:ext cx="21333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2971800" y="403848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895480" y="419112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7200" y="457200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457200" y="472428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actic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4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the following sentences and underline the subject once and the opinion twi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09480" y="30481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shing is fun to do when I’m with my 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09480" y="36576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is my favorite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09480" y="4343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’s exciting to go to a new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09480" y="51814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cos are my favorite f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09480" y="5715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like radio station Star 102.9 the mo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8:11:03Z</dcterms:created>
  <dc:creator>Farmington Municipal Schools</dc:creator>
  <dc:description/>
  <dc:language>en-US</dc:language>
  <cp:lastModifiedBy>Justin Pitcher</cp:lastModifiedBy>
  <cp:lastPrinted>1904-01-01T00:00:00Z</cp:lastPrinted>
  <dcterms:modified xsi:type="dcterms:W3CDTF">2009-11-02T13:35:22Z</dcterms:modified>
  <cp:revision>23</cp:revision>
  <dc:subject/>
  <dc:title>Jane C. Schaffer or The High School Writing Process</dc:title>
</cp:coreProperties>
</file>