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8190-6399-4FE1-890D-AC802214537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36DA-6329-490A-A225-935F1DDD6F7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E0BC-AEFF-436E-9DD4-F716FC597BA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4293-E044-4038-B55C-BA0D8EDD52E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6F4B-AF17-4408-AD1D-4FA843220B6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33E9-E147-4ECC-A26D-4189759D8D9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59BC-A034-4B31-AE29-6CA14CEA169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FACE-9366-48C4-90D3-FA09DA37219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6584-892A-407B-9032-06612FE0B18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7001-1182-42DE-B504-2AF82F0DFB6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85A4-DB47-4823-BFC5-95A1B2FCCEF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6F67-ECD1-4C17-991F-0C2CA34D148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17F1-7E41-430A-B6C7-14DB3268375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760D-6928-4E48-8754-9ECCFA1EBA2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B68A-A25A-49B2-99E7-E1D54975D23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F1BA-0FB1-49B4-A8DD-BCC4C3BEA91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DDF0-2ECC-4F7C-98AF-1EA03B85187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9A8A-4E03-4CC4-B8F2-DA0EEC49384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6C13-42C0-4B88-A3F3-A42FC9A50FC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4518-F031-4FFF-B2A4-BB12D81575F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BC48-ABAC-46C9-9429-D7D241963EA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514B-2024-4B9E-88B5-F32A72B9DBF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69C7-7CCC-4D81-893C-1167D6E5285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43C9-913D-4473-B9E1-B3D7EDC2E29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9C3E-850F-41A8-A444-145C7A2E4E0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5B77-3470-410C-BE65-5DB32CDFDCC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59CF-889B-4F89-8841-75A1D86F063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72EF-7849-447C-A9FA-649225FCD54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20C3-0C38-437F-AD51-22BBCF10495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91A5-D971-4E55-9616-DD5E515782A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E5F4-E570-4259-AD1F-2BB78C7A58A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F5E1-3D06-4045-8004-BA1CC9AF3DC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84D5-4013-43F1-BB30-9815A160DD0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1ADA-9BD0-484F-A2B2-C135533FA36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5E04-58BD-4C02-AD82-EEFACE8B05F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88BD-9FA2-4DA7-A4A0-500379056A5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C59A-BEAC-4988-BD6F-9A8268C2C7C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2"/>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2"/>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a:t>
            </a:r>
            <a:r>
              <a:rPr b="1" lang="en-US" sz="2400" spc="-1" strike="noStrike">
                <a:solidFill>
                  <a:srgbClr val="000000"/>
                </a:solidFill>
                <a:latin typeface="Arial"/>
                <a:ea typeface="ＭＳ Ｐゴシック"/>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2"/>
          <a:stretch/>
        </p:blipFill>
        <p:spPr>
          <a:xfrm>
            <a:off x="1193760" y="2209680"/>
            <a:ext cx="2689200" cy="4038840"/>
          </a:xfrm>
          <a:prstGeom prst="rect">
            <a:avLst/>
          </a:prstGeom>
          <a:ln w="0">
            <a:noFill/>
          </a:ln>
        </p:spPr>
      </p:pic>
      <p:pic>
        <p:nvPicPr>
          <p:cNvPr id="89" name="Picture 7" descr=""/>
          <p:cNvPicPr/>
          <p:nvPr/>
        </p:nvPicPr>
        <p:blipFill>
          <a:blip r:embed="rId3"/>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2"/>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92" name="Picture 5" descr=""/>
          <p:cNvPicPr/>
          <p:nvPr/>
        </p:nvPicPr>
        <p:blipFill>
          <a:blip r:embed="rId2"/>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2"/>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Justin Pitcher</cp:lastModifiedBy>
  <dcterms:modified xsi:type="dcterms:W3CDTF">2010-01-20T14:32:39Z</dcterms:modified>
  <cp:revision>422</cp:revision>
  <dc:subject/>
  <dc:title>Finding Your Focus</dc:title>
</cp:coreProperties>
</file>