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8902-61CA-4A61-B957-ECCAF853380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0668-46F5-47C7-B86A-1260B5B48FA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5ED2-B029-4647-91F8-1989A363837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6318-6299-4C79-8660-F8CAAC0040E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2AEA-B7CD-4186-B2EA-7458465A83F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10E9-92DE-43E7-920B-9393C3A23D5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E2E3-68E7-4241-BA65-7CF6C386E64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F587-6722-47CD-B082-905ABF8FD62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CA7A-11CE-4570-9296-B536054C117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1FC0-B291-47D6-AA51-65AD4C26933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14DF-5DEA-4114-86F4-73621FA3AD9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3E92-2223-435C-B69C-3AF40A56ACC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401B-BEC8-4BA6-B743-F1A3053C630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F47D-1BED-4919-BD28-7D51116DBCA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CD3F-A557-412E-8A2F-445E1AA4916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1E62-FFD6-41D3-A7F3-08B89D9BA46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CAF2-A3AB-4C52-9561-DFCEC1644C5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5935-9C7C-4BBC-AAB1-A6811C98B2B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0FDC-F37C-45D4-A9D2-9429626F34A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79FA-FA64-4E2C-9952-D0271FB480B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500F-BCF6-47AC-8EF7-FD4EC3E4E89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E71B-6834-412B-84A6-9D36EEEA2D8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9200-6AAB-4596-8A52-8D806CCCE81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2F4F-5C62-4D6F-AA0B-4986E126D6B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1836-70E4-4498-875B-9BBBE4722F4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DF34-52B5-4F3C-82AE-FBEF9CBD5F3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1701-EA91-446D-AFF0-648E5F9238F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CBBF-4995-4D0E-8549-E8D5CDCADA4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3ACF-1F9C-4991-B110-E53A547158D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562A-40A5-4CB8-B595-1764DEBD402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53B0-43F5-48D3-B831-41D80DB97DA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0FD3-38CF-4C8D-AC74-D79EAF6F7F5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51B5-C683-4AA8-8903-A02EE02EC97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B8C4-1779-4546-B99C-1B37100AE6A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E97F-B6A4-4CDD-B55B-25CDC846B78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E439-AB57-4D57-8E7C-F5D121D2648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7788-E806-40B6-B400-3DAF8EBB3AD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Justin Pitcher</cp:lastModifiedBy>
  <dcterms:modified xsi:type="dcterms:W3CDTF">2010-01-20T14:32:39Z</dcterms:modified>
  <cp:revision>422</cp:revision>
  <dc:subject/>
  <dc:title>Finding Your Focus</dc:title>
</cp:coreProperties>
</file>