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0440-9B00-4913-A412-5A9CAF6EED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7A0-6E70-4AA7-94FC-987D7BE8111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9C89-F9F8-48B0-AC59-714A88CB901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DBB-3009-4999-95CD-F1796990A3D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A192-FC9F-4F1D-A7D7-56B3DECCEEE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D67C-5249-4B52-AD99-E1F9392DC04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2621-A4F5-4742-B57D-7179A05DF47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A0AC-BE37-403A-A40A-0115A22766A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7E13-A16B-473B-A341-472728B3333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AAA0-F3E5-451A-8282-8C1A495BAD1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F4CA-47D1-40CC-AF11-3B6349140A1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4429-A40A-49A0-9F04-FEDC3411F95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0B4B-4F81-4D81-B62B-B452C09CEFC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FFCD-89DA-4FA4-AAE1-A60744C4F4C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E75A-D452-4E71-A740-4230EEC24F9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19D6-4765-4782-A63C-E83DBB8CF0A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FE47-890C-4F87-A0DC-62877DC3267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E721-E6A0-4C51-A40B-CCA487ECDA6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FC39-2AAE-483C-B10A-DCC992481D4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A65D-9A3B-4CE7-B6C0-BE1CAB657F0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1B9B-FEBC-410B-A584-43CF9A539D5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69F8-2ACD-4838-86C3-0C7528F8997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EF54-6B1E-4BE1-A257-62416C2ABE3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DDF3-0DF6-406C-8C8F-4CAB96ABE6F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E0A6-48E4-48A1-81D4-5F222C68766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373D-A962-4332-8CB2-5C6DF782661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4792-22FA-421D-9EFF-5B77D2F33E3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15F1-D163-4BAB-AD64-969EBB6CFD3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6CCC-96AD-4C8F-BF00-AD768CB70A5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F058-25F7-4799-AE95-7F9A4C801F8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AAB1-9DD8-4571-996D-5BDBB274977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152C-9731-4F5C-986A-1D30DC82CF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B444-3BB3-424E-85A2-2D6F62C6419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5E95-75A6-44AA-8A5D-85151BE7D13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F3D8-E525-4F37-ABD1-D93E10B0763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80FA-9F2C-4142-A46F-5D19C9D88B0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F85C-825B-43F6-88A2-B77E2D987B5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Justin Pitcher</cp:lastModifiedBy>
  <dcterms:modified xsi:type="dcterms:W3CDTF">2010-01-20T14:32:39Z</dcterms:modified>
  <cp:revision>422</cp:revision>
  <dc:subject/>
  <dc:title>Finding Your Focus</dc:title>
</cp:coreProperties>
</file>