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BD9-F0C8-4176-B32C-8DA186FE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295-CAD6-45E7-B306-839BF9EA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E32-8427-4996-B060-336A761B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EF8B-63E2-48E6-9E1C-098AFF48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215A-B242-4D13-ACB4-6F252D64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CF30-B8B3-4B53-B7E9-1ADF57E3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9212-ADBC-4A27-8405-3A329D82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DC81-09D4-4822-B778-8C4F63FF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31B2-7433-4CEC-B3D1-24AA5551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1163-32A3-49CE-A8A6-1D664657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E66D-8BF8-41D3-8625-E35889A3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EB8-5C2E-491F-B344-AD5D6C4B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6A66-9DE4-4FCB-99A1-58B1B3FA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DF6D-610B-4572-84D7-916B958B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779B-F73F-46F1-8193-455A7640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FAFE-1859-4BE1-94C0-A66D005D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89C4-4B2A-4FB9-AEFF-198E88F9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133-E84D-43BA-BC1A-844EF19C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13A0-89F2-4BBF-BFA3-BE2EE21D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DE8-0A74-4B74-A440-274F1164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F0F-6B85-46A8-A16F-95A775B2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327-1A77-4EBF-8E1F-E3227849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E1E-4947-487D-B7F0-2ECF6105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7A9-2F68-46B5-88DB-F8E47EC6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E89B-3F6D-4995-9A51-546EF54D5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DF00-F1CD-49FB-B0F8-C80889FAC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Jane Schaffer Writing Method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rminology Part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28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hesis State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esis is a statement that you are trying to explain or prove in your essa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your body paragraphs support this thesis by using Concrete Details and Commentary to prove your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Body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dy paragraphs are the middle paragraphs in the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dy paragraph develops a point you want to make that supports your 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ody paragraph has a different point/focus, which will support your 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cluding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concluding paragraph is the last paragraph of the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sum up your ideas, reflect on what you said in your essay, say more commentary about your subject, or give a personal statement about the su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lusion is ALL COMMENTARY and DOES NOT INCLUDE CONCRETE DET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 not repeat key words from you paper, especially not from your thesis and introductory paragrap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gives a finished feeling to your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opic Sent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25909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Topic Sentence is 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first sentence in a body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entence sets the stage for what you are going to be talking about in the paragrap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oes the same thing for a body paragraph that the thesis does for the whole ess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0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crete Deta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Concrete Detail is C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specific details that form the backbone or core of your body para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be facts, specifics, examples, descriptions, illustrations evidence, quotations, paraphrasing, and plot referen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Concrete Details as the pieces of evidence to support your thesis and/or Topic Sent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0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mmenta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Commentary is C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your view or comment about a Concrete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be opinion, insight, analysis, interpretation, inference, personal response/feelings, evaluation, and refle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ary answers the questions “HOW” and “WHY” for your concrete deta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0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cluding Sent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breviation for Concluding Sentence is 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last sentence of your body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ll commentary (does not bring up any new Concrete Detail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oes not repeat key words, and it gives a finished feeling to the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oes the same thing for a body paragraph that a conclusion paragraph does for a whole ess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996240" y="228600"/>
            <a:ext cx="1865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hunk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nged paragraph, called a chunk, uses a topic sentence, concrete detail(s), commentary, and concluding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1 Concrete Detail, you must have 2 Commentary sentences to back up the Concrete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hunk Paragraph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ontinue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7335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 Chunk Para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5105520" y="175248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ble Chunk Para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724280" y="16765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6680" y="2438280"/>
          <a:ext cx="3581640" cy="403884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 (Topic Senten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 (Concrete Detai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cluding Sentenc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3" name="AutoShape 28"/>
          <p:cNvCxnSpPr/>
          <p:nvPr/>
        </p:nvCxnSpPr>
        <p:spPr>
          <a:xfrm flipV="1">
            <a:off x="4266720" y="3657240"/>
            <a:ext cx="2520" cy="8071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4" name="AutoShape 29"/>
          <p:cNvCxnSpPr/>
          <p:nvPr/>
        </p:nvCxnSpPr>
        <p:spPr>
          <a:xfrm flipV="1">
            <a:off x="3962520" y="3809160"/>
            <a:ext cx="2160" cy="16153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graphicFrame>
        <p:nvGraphicFramePr>
          <p:cNvPr id="115" name=""/>
          <p:cNvGraphicFramePr/>
          <p:nvPr/>
        </p:nvGraphicFramePr>
        <p:xfrm>
          <a:off x="4800600" y="2209680"/>
          <a:ext cx="3962520" cy="426744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 (Topic Senten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 (Concrete Detai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 (Concrete Detai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 (Commentar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 (Concluding Sentence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6" name="AutoShape 61"/>
          <p:cNvCxnSpPr/>
          <p:nvPr/>
        </p:nvCxnSpPr>
        <p:spPr>
          <a:xfrm flipV="1">
            <a:off x="8305920" y="2895120"/>
            <a:ext cx="2160" cy="8071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7" name="AutoShape 63"/>
          <p:cNvCxnSpPr/>
          <p:nvPr/>
        </p:nvCxnSpPr>
        <p:spPr>
          <a:xfrm flipV="1">
            <a:off x="8305920" y="4495320"/>
            <a:ext cx="2160" cy="80712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8" name="AutoShape 64"/>
          <p:cNvCxnSpPr/>
          <p:nvPr/>
        </p:nvCxnSpPr>
        <p:spPr>
          <a:xfrm flipV="1">
            <a:off x="8001000" y="3123720"/>
            <a:ext cx="2160" cy="106776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19" name="AutoShape 65"/>
          <p:cNvCxnSpPr/>
          <p:nvPr/>
        </p:nvCxnSpPr>
        <p:spPr>
          <a:xfrm flipV="1">
            <a:off x="8001000" y="4723920"/>
            <a:ext cx="2160" cy="1067760"/>
          </a:xfrm>
          <a:prstGeom prst="bentConnector3">
            <a:avLst>
              <a:gd name="adj1" fmla="val 14400000"/>
            </a:avLst>
          </a:prstGeom>
          <a:ln w="158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120" name="AutoShape 66"/>
          <p:cNvCxnSpPr/>
          <p:nvPr/>
        </p:nvCxnSpPr>
        <p:spPr>
          <a:xfrm flipH="1" rot="10800000">
            <a:off x="1371240" y="2971080"/>
            <a:ext cx="2160" cy="8089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5840">
            <a:solidFill>
              <a:srgbClr val="800080"/>
            </a:solidFill>
            <a:miter/>
            <a:tailEnd len="lg" type="triangle" w="lg"/>
          </a:ln>
        </p:spPr>
      </p:cxnSp>
      <p:cxnSp>
        <p:nvCxnSpPr>
          <p:cNvPr id="121" name="AutoShape 68"/>
          <p:cNvCxnSpPr/>
          <p:nvPr/>
        </p:nvCxnSpPr>
        <p:spPr>
          <a:xfrm flipH="1" rot="10800000">
            <a:off x="5105160" y="2361600"/>
            <a:ext cx="2160" cy="53388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5840">
            <a:solidFill>
              <a:srgbClr val="800080"/>
            </a:solidFill>
            <a:miter/>
            <a:tailEnd len="lg" type="triangle" w="lg"/>
          </a:ln>
        </p:spPr>
      </p:cxnSp>
      <p:cxnSp>
        <p:nvCxnSpPr>
          <p:cNvPr id="122" name="AutoShape 69"/>
          <p:cNvCxnSpPr/>
          <p:nvPr/>
        </p:nvCxnSpPr>
        <p:spPr>
          <a:xfrm flipH="1" rot="10800000">
            <a:off x="5333760" y="2590200"/>
            <a:ext cx="2160" cy="2134080"/>
          </a:xfrm>
          <a:prstGeom prst="curvedConnector5">
            <a:avLst>
              <a:gd name="adj1" fmla="val -14400000"/>
              <a:gd name="adj2" fmla="val 49991"/>
              <a:gd name="adj3" fmla="val -14400000"/>
            </a:avLst>
          </a:prstGeom>
          <a:ln w="15840">
            <a:solidFill>
              <a:srgbClr val="80008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Jane Schaffer Writing Method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rminology Part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28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Introduction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roduction is the first paragraph in an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ludes the thesis, which is most often found at the end of the introduction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554960" y="0"/>
            <a:ext cx="1589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18:58Z</dcterms:created>
  <dc:creator> </dc:creator>
  <dc:description/>
  <dc:language>en-US</dc:language>
  <cp:lastModifiedBy>Justin Pitcher</cp:lastModifiedBy>
  <dcterms:modified xsi:type="dcterms:W3CDTF">2009-11-02T13:35:34Z</dcterms:modified>
  <cp:revision>32</cp:revision>
  <dc:subject/>
  <dc:title>Much Ado About Nothing</dc:title>
</cp:coreProperties>
</file>