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9B8-2A34-4EAC-86BF-41BA766C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E6C-173A-4FE7-A7F5-0AE91AF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328-2682-4085-97C0-7213F0A0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82B-3D2C-474E-AE5D-50955A47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7330-822B-4422-B557-51CF9B81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C35E-910D-47CF-94F9-BDDFF87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586-9A9F-4ACE-AB97-F49BEC6A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3B10-E145-456D-B107-2FD2A1B1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D4C8-C005-4CA1-AC00-5F5BA4F2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9A56-D57E-48DD-909D-61392608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AF7F-D998-4BA1-81C6-AE142BEA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632-4001-44BC-A373-E59F32E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828-B2CD-47F3-98DC-8E57F2E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0EC8-A9B1-4512-8F5C-0192D48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3CF5-3AED-46EE-B62B-6630708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50FA-89A1-47A0-821D-8E66C202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D2E-90B4-40C5-A55E-9C38737A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3F6-FFB5-4273-BD73-D95246A5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5EE-C3E1-4D9C-AB68-038EA8AA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2D8-2AB6-4550-82EA-0D837BF4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B92-ECC5-4506-ABCC-D7EB96D0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7EA-A42C-416B-8C1A-D43C8A6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DE3-E024-456F-8C04-83A8836C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35E-D29B-4D6A-86A2-33BFC40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52C7-C4F0-4997-8ACE-0FCD9F4EB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D244-B2E5-4406-BB34-CC74252B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sis is a statement that you are trying to explain or prove in your essa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your body paragraphs support this thesis by using Concrete Details and Commentary to prove your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Body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paragraphs are the middle paragraphs in the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dy paragraph develops a point you want to make that supports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ody paragraph has a different point/focus, which will support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concluding paragraph is the last paragraph of the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um up your ideas, reflect on what you said in your essay, say more commentary about your subject, or give a personal statement about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lusion is ALL COMMENTARY and DOES NOT INCLUDE CONCRET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repeat key words from you paper, especially not from your thesis and introductory para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ives a finished feeling to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opic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Topic Sentence is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first sentence in a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ntence sets the stage for what you are going to be talking about in the paragra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the thesis does for the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rete Deta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rete Detail is C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specific details that form the backbone or core of your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facts, specifics, examples, descriptions, illustrations evidence, quotations, paraphrasing, and plot refere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Concrete Details as the pieces of evidence to support your thesis and/or Topic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mment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mmentary is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your view or comment about a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opinion, insight, analysis, interpretation, inference, personal response/feelings, evaluation, and refl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ary answers the questions “HOW” and “WHY” for your concrete deta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luding Sentence is 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last sentence of your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l commentary (does not bring up any new Concrete Detail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not repeat key words, and it gives a finished feeling to the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a conclusion paragraph does for a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996240" y="228600"/>
            <a:ext cx="1865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nged paragraph, called a chunk, uses a topic sentence, concrete detail(s), commentary, and concluding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1 Concrete Detail, you must have 2 Commentary sentences to back up the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tinu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10552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b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724280" y="16765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438280"/>
          <a:ext cx="3581640" cy="403884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cluding Sent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28"/>
          <p:cNvCxnSpPr/>
          <p:nvPr/>
        </p:nvCxnSpPr>
        <p:spPr>
          <a:xfrm flipV="1">
            <a:off x="4266720" y="3657240"/>
            <a:ext cx="252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4" name="AutoShape 29"/>
          <p:cNvCxnSpPr/>
          <p:nvPr/>
        </p:nvCxnSpPr>
        <p:spPr>
          <a:xfrm flipV="1">
            <a:off x="3962520" y="3809160"/>
            <a:ext cx="2160" cy="16153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graphicFrame>
        <p:nvGraphicFramePr>
          <p:cNvPr id="115" name=""/>
          <p:cNvGraphicFramePr/>
          <p:nvPr/>
        </p:nvGraphicFramePr>
        <p:xfrm>
          <a:off x="4800600" y="2209680"/>
          <a:ext cx="3962520" cy="42674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(Concluding Sentenc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6" name="AutoShape 61"/>
          <p:cNvCxnSpPr/>
          <p:nvPr/>
        </p:nvCxnSpPr>
        <p:spPr>
          <a:xfrm flipV="1">
            <a:off x="8305920" y="28951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7" name="AutoShape 63"/>
          <p:cNvCxnSpPr/>
          <p:nvPr/>
        </p:nvCxnSpPr>
        <p:spPr>
          <a:xfrm flipV="1">
            <a:off x="8305920" y="44953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8" name="AutoShape 64"/>
          <p:cNvCxnSpPr/>
          <p:nvPr/>
        </p:nvCxnSpPr>
        <p:spPr>
          <a:xfrm flipV="1">
            <a:off x="8001000" y="31237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9" name="AutoShape 65"/>
          <p:cNvCxnSpPr/>
          <p:nvPr/>
        </p:nvCxnSpPr>
        <p:spPr>
          <a:xfrm flipV="1">
            <a:off x="8001000" y="47239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20" name="AutoShape 66"/>
          <p:cNvCxnSpPr/>
          <p:nvPr/>
        </p:nvCxnSpPr>
        <p:spPr>
          <a:xfrm flipH="1" rot="10800000">
            <a:off x="1371240" y="2971080"/>
            <a:ext cx="2160" cy="808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1" name="AutoShape 68"/>
          <p:cNvCxnSpPr/>
          <p:nvPr/>
        </p:nvCxnSpPr>
        <p:spPr>
          <a:xfrm flipH="1" rot="10800000">
            <a:off x="5105160" y="2361600"/>
            <a:ext cx="2160" cy="5338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2" name="AutoShape 69"/>
          <p:cNvCxnSpPr/>
          <p:nvPr/>
        </p:nvCxnSpPr>
        <p:spPr>
          <a:xfrm flipH="1" rot="10800000">
            <a:off x="5333760" y="2590200"/>
            <a:ext cx="2160" cy="213408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Introduction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roduction is the first paragraph in an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ludes the thesis, which is most often found at the end of the introduction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18:58Z</dcterms:created>
  <dc:creator> </dc:creator>
  <dc:description/>
  <dc:language>en-US</dc:language>
  <cp:lastModifiedBy>Justin Pitcher</cp:lastModifiedBy>
  <dcterms:modified xsi:type="dcterms:W3CDTF">2009-11-02T13:35:34Z</dcterms:modified>
  <cp:revision>32</cp:revision>
  <dc:subject/>
  <dc:title>Much Ado About Nothing</dc:title>
</cp:coreProperties>
</file>