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2BC-BA81-4D95-99D0-37DB66E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B02-31F1-485F-825E-D92EEEB7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95-A8E4-4675-8FDF-3128FCE8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265-BD3B-4787-8FFC-D735933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CC42-4CB3-479D-A705-176A333B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8D4-C84A-4E7F-B65B-08F05F16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D94B-7639-42B5-A86B-B3DFDAF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C87-028E-4E76-826E-D9857D8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3474-E960-48FD-AF3C-3FAE6E0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A296-7D3A-4D70-B4C1-2E68DA6B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9EE-9B68-4090-9AD5-069D170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89E-1C9E-4C00-B104-46650FF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9DD3-4B53-4E42-A999-386B519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0016-E86A-4119-ACEF-8811BEE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1233-92E1-406C-B50C-EAA7D0C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FD50-E221-42CC-AA92-2F6C32D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EF79-CC9C-4072-AE1A-97E9C2A2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F43-53E6-4A68-985B-A535DA0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408-45A7-4915-8726-879D961D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70D-9AE9-4BF2-87C7-158D0426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74D-75E5-4280-80A1-800D890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5A4-DD93-4013-B537-3FB8715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33F-FFEB-41CA-BB0B-982AC3A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A97-70D6-4948-947D-928764D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48A4-E390-4118-ACE7-954B0570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416-5F14-4D30-B3A8-F0295F94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sis is a statement that you are trying to explain or prove in your essa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your body paragraphs support this thesis by using Concrete Details and Commentary to prove your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Body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paragraphs are the middle paragraphs in the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dy paragraph develops a point you want to make that supports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ody paragraph has a different point/focus, which will support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ncluding paragraph is the last paragraph of the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um up your ideas, reflect on what you said in your essay, say more commentary about your subject, or give a personal statement about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lusion is ALL COMMENTARY and DOES NOT INCLUDE CONCRET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repeat key words from you paper, especially not from your thesis and introductory para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ives a finished feeling to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opic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Topic Sentence is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first sentence in a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ntence sets the stage for what you are going to be talking about in the paragra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the thesis does for the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rete Deta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rete Detail is 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pecific details that form the backbone or core of your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facts, specifics, examples, descriptions, illustrations evidence, quotations, paraphrasing, and plot refere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crete Details as the pieces of evidence to support your thesis and/or Topic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mment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mmentary is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your view or comment about a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opinion, insight, analysis, interpretation, inference, personal response/feelings, evaluation, and refl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ary answers the questions “HOW” and “WHY” for your concrete deta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luding Sentence is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last sentence of your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l commentary (does not bring up any new Concrete Detail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not repeat key words, and it gives a finished feeling to the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a conclusion paragraph does for a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996240" y="228600"/>
            <a:ext cx="1865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nged paragraph, called a chunk, uses a topic sentence, concrete detail(s), commentary, and concluding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1 Concrete Detail, you must have 2 Commentary sentences to back up the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10552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b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72428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438280"/>
          <a:ext cx="3581640" cy="403884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cluding Sent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28"/>
          <p:cNvCxnSpPr/>
          <p:nvPr/>
        </p:nvCxnSpPr>
        <p:spPr>
          <a:xfrm flipV="1">
            <a:off x="4266720" y="3657240"/>
            <a:ext cx="252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4" name="AutoShape 29"/>
          <p:cNvCxnSpPr/>
          <p:nvPr/>
        </p:nvCxnSpPr>
        <p:spPr>
          <a:xfrm flipV="1">
            <a:off x="3962520" y="3809160"/>
            <a:ext cx="2160" cy="16153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graphicFrame>
        <p:nvGraphicFramePr>
          <p:cNvPr id="115" name=""/>
          <p:cNvGraphicFramePr/>
          <p:nvPr/>
        </p:nvGraphicFramePr>
        <p:xfrm>
          <a:off x="4800600" y="2209680"/>
          <a:ext cx="3962520" cy="42674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(Concluding Sentenc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6" name="AutoShape 61"/>
          <p:cNvCxnSpPr/>
          <p:nvPr/>
        </p:nvCxnSpPr>
        <p:spPr>
          <a:xfrm flipV="1">
            <a:off x="8305920" y="28951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7" name="AutoShape 63"/>
          <p:cNvCxnSpPr/>
          <p:nvPr/>
        </p:nvCxnSpPr>
        <p:spPr>
          <a:xfrm flipV="1">
            <a:off x="8305920" y="44953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8" name="AutoShape 64"/>
          <p:cNvCxnSpPr/>
          <p:nvPr/>
        </p:nvCxnSpPr>
        <p:spPr>
          <a:xfrm flipV="1">
            <a:off x="8001000" y="31237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9" name="AutoShape 65"/>
          <p:cNvCxnSpPr/>
          <p:nvPr/>
        </p:nvCxnSpPr>
        <p:spPr>
          <a:xfrm flipV="1">
            <a:off x="8001000" y="47239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20" name="AutoShape 66"/>
          <p:cNvCxnSpPr/>
          <p:nvPr/>
        </p:nvCxnSpPr>
        <p:spPr>
          <a:xfrm flipH="1" rot="10800000">
            <a:off x="1371240" y="2971080"/>
            <a:ext cx="2160" cy="808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1" name="AutoShape 68"/>
          <p:cNvCxnSpPr/>
          <p:nvPr/>
        </p:nvCxnSpPr>
        <p:spPr>
          <a:xfrm flipH="1" rot="10800000">
            <a:off x="5105160" y="2361600"/>
            <a:ext cx="2160" cy="5338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2" name="AutoShape 69"/>
          <p:cNvCxnSpPr/>
          <p:nvPr/>
        </p:nvCxnSpPr>
        <p:spPr>
          <a:xfrm flipH="1" rot="10800000">
            <a:off x="5333760" y="2590200"/>
            <a:ext cx="216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roduction is the first paragraph in an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ludes the thesis, which is most often found at the end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18:58Z</dcterms:created>
  <dc:creator> </dc:creator>
  <dc:description/>
  <dc:language>en-US</dc:language>
  <cp:lastModifiedBy>Justin Pitcher</cp:lastModifiedBy>
  <dcterms:modified xsi:type="dcterms:W3CDTF">2009-11-02T13:35:34Z</dcterms:modified>
  <cp:revision>32</cp:revision>
  <dc:subject/>
  <dc:title>Much Ado About Nothing</dc:title>
</cp:coreProperties>
</file>