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644-7A4C-4792-9CE6-B597E434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D82-9184-4E3D-803A-93EB806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DBC-0A2E-48AA-9506-CFA3CAE8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B96-A6F4-4B33-BFB2-3CDB64D7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FF14-9C40-4AAB-B8D5-DC05319C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8413-95F1-4ABA-BFB3-2F0D710E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AF5F-175B-4115-8AC6-B9F0485F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98C-BFFE-4914-A097-877692CB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7C20-FE2C-4E66-8B1F-89DE8D2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6E2E-E253-4579-8028-0E8FB04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C1F2-9F6B-4C66-8627-5CF24F21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6F0-CBA2-42D2-9B98-E5A38554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A211-3BEA-48C6-BF8E-75D9EF1D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E7D6-8918-49F3-9731-33295834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E63F-474D-4AB1-8439-AE4BA579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23C6-B5BC-4ADF-87F7-1C97BED7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714-6B8F-4956-A46A-AF4C4AD3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7B1-C3DB-4503-8645-402C9373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C4C-21A8-4AE7-969E-14DA2BA4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015-AE2A-4127-960C-13A318A7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47B-2F21-4676-B68C-D5A87F39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E35-F5BF-4B7B-84B6-E2F83B1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7F1-C18D-4AF4-A395-A27C198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A1A-7384-4B0A-9143-8994F925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E8A-31F4-4DDA-A9BA-C3B01422A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E18D-8CAC-4450-A181-44C35BC8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sis is a statement that you are trying to explain or prove in your essa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your body paragraphs support this thesis by using Concrete Details and Commentary to prove your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Body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paragraphs are the middle paragraphs in the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dy paragraph develops a point you want to make that supports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ody paragraph has a different point/focus, which will support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concluding paragraph is the last paragraph of the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um up your ideas, reflect on what you said in your essay, say more commentary about your subject, or give a personal statement about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lusion is ALL COMMENTARY and DOES NOT INCLUDE CONCRETE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repeat key words from you paper, especially not from your thesis and introductory para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ives a finished feeling to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opic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Topic Sentence is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first sentence in a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ntence sets the stage for what you are going to be talking about in the paragrap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the thesis does for the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rete Deta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rete Detail is C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specific details that form the backbone or core of your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facts, specifics, examples, descriptions, illustrations evidence, quotations, paraphrasing, and plot refere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Concrete Details as the pieces of evidence to support your thesis and/or Topic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mment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mmentary is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your view or comment about a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opinion, insight, analysis, interpretation, inference, personal response/feelings, evaluation, and refle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ary answers the questions “HOW” and “WHY” for your concrete deta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luding Sentence is 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last sentence of your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l commentary (does not bring up any new Concrete Detail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not repeat key words, and it gives a finished feeling to the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a conclusion paragraph does for a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996240" y="228600"/>
            <a:ext cx="1865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nged paragraph, called a chunk, uses a topic sentence, concrete detail(s), commentary, and concluding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1 Concrete Detail, you must have 2 Commentary sentences to back up the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tinu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510552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b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724280" y="16765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438280"/>
          <a:ext cx="3581640" cy="403884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cluding Sent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28"/>
          <p:cNvCxnSpPr/>
          <p:nvPr/>
        </p:nvCxnSpPr>
        <p:spPr>
          <a:xfrm flipV="1">
            <a:off x="4266720" y="3657240"/>
            <a:ext cx="252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4" name="AutoShape 29"/>
          <p:cNvCxnSpPr/>
          <p:nvPr/>
        </p:nvCxnSpPr>
        <p:spPr>
          <a:xfrm flipV="1">
            <a:off x="3962520" y="3809160"/>
            <a:ext cx="2160" cy="16153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graphicFrame>
        <p:nvGraphicFramePr>
          <p:cNvPr id="115" name=""/>
          <p:cNvGraphicFramePr/>
          <p:nvPr/>
        </p:nvGraphicFramePr>
        <p:xfrm>
          <a:off x="4800600" y="2209680"/>
          <a:ext cx="3962520" cy="42674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(Concluding Sentence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6" name="AutoShape 61"/>
          <p:cNvCxnSpPr/>
          <p:nvPr/>
        </p:nvCxnSpPr>
        <p:spPr>
          <a:xfrm flipV="1">
            <a:off x="8305920" y="28951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7" name="AutoShape 63"/>
          <p:cNvCxnSpPr/>
          <p:nvPr/>
        </p:nvCxnSpPr>
        <p:spPr>
          <a:xfrm flipV="1">
            <a:off x="8305920" y="44953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8" name="AutoShape 64"/>
          <p:cNvCxnSpPr/>
          <p:nvPr/>
        </p:nvCxnSpPr>
        <p:spPr>
          <a:xfrm flipV="1">
            <a:off x="8001000" y="31237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9" name="AutoShape 65"/>
          <p:cNvCxnSpPr/>
          <p:nvPr/>
        </p:nvCxnSpPr>
        <p:spPr>
          <a:xfrm flipV="1">
            <a:off x="8001000" y="47239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20" name="AutoShape 66"/>
          <p:cNvCxnSpPr/>
          <p:nvPr/>
        </p:nvCxnSpPr>
        <p:spPr>
          <a:xfrm flipH="1" rot="10800000">
            <a:off x="1371240" y="2971080"/>
            <a:ext cx="2160" cy="808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1" name="AutoShape 68"/>
          <p:cNvCxnSpPr/>
          <p:nvPr/>
        </p:nvCxnSpPr>
        <p:spPr>
          <a:xfrm flipH="1" rot="10800000">
            <a:off x="5105160" y="2361600"/>
            <a:ext cx="2160" cy="5338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2" name="AutoShape 69"/>
          <p:cNvCxnSpPr/>
          <p:nvPr/>
        </p:nvCxnSpPr>
        <p:spPr>
          <a:xfrm flipH="1" rot="10800000">
            <a:off x="5333760" y="2590200"/>
            <a:ext cx="2160" cy="213408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Introduction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roduction is the first paragraph in an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ludes the thesis, which is most often found at the end of the introduction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18:58Z</dcterms:created>
  <dc:creator> </dc:creator>
  <dc:description/>
  <dc:language>en-US</dc:language>
  <cp:lastModifiedBy>Justin Pitcher</cp:lastModifiedBy>
  <dcterms:modified xsi:type="dcterms:W3CDTF">2009-11-02T13:35:34Z</dcterms:modified>
  <cp:revision>32</cp:revision>
  <dc:subject/>
  <dc:title>Much Ado About Nothing</dc:title>
</cp:coreProperties>
</file>